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4519-445F-4C03-A7F0-CC2623BD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C3C-792C-4212-9365-91866641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68E-A40C-4722-9F5D-2DB48F10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510-470D-44B8-A287-78C75594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8ADA-0669-40A6-8F21-9C928E43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21F-386D-46EE-8B2F-E4FE8049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C92-A4BD-4F28-92CF-267185F6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758-CD2D-4B66-B006-C979956B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2A8-9D17-4180-81F0-7E114135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55E-5EF4-4E8A-8DB0-14942CC3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C62-10E3-4A2D-BD81-B1069458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B37-7C81-4ACB-BBDC-FC867832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6621-0C21-422D-954E-FA1ED3B09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31240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ESSION / Viena - 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3048120"/>
            <a:ext cx="0" cy="6094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00200" y="3124080"/>
          <a:ext cx="299880" cy="3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124080"/>
                    <a:ext cx="29988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5721120" y="3200400"/>
            <a:ext cx="1442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EÑO. GRÁF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5486400" y="3232080"/>
            <a:ext cx="185760" cy="1875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ESIÓN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Moser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ubierta y páginas de Ver Sac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914560" y="762120"/>
            <a:ext cx="5292720" cy="5333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5480" y="762120"/>
            <a:ext cx="5334120" cy="533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ESIÓN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Klimt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artel para la primera exhibición de la Secesión de Vi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444920" y="1143000"/>
            <a:ext cx="3479760" cy="4952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19720" y="1143000"/>
            <a:ext cx="3504960" cy="4952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ESIÓN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Moser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artel para la decimotercera Secesión de Vi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78360" y="609480"/>
            <a:ext cx="1765440" cy="5765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791320" y="609480"/>
            <a:ext cx="1752480" cy="579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ESIÓN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Roller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artel para la decimosexta Secesión de Vi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638680" y="609480"/>
            <a:ext cx="1981440" cy="5765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638680" y="609480"/>
            <a:ext cx="1981440" cy="579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ESIÓN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Andri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artel para la décima exhibición de la Secesión de Vi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791320" y="749160"/>
            <a:ext cx="1662120" cy="5499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791320" y="762120"/>
            <a:ext cx="1676160" cy="5486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ESIÓN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Moser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fiche publici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48320" y="685800"/>
            <a:ext cx="3403440" cy="5613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48320" y="685800"/>
            <a:ext cx="3429000" cy="5638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ESIÓN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Hodler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fiche para exhib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98880" y="1143000"/>
            <a:ext cx="3216600" cy="4762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76920" y="1143000"/>
            <a:ext cx="3200400" cy="472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317840" y="609480"/>
            <a:ext cx="3759480" cy="5651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317840" y="609480"/>
            <a:ext cx="3733920" cy="5639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ESIÓN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Andri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fiche para exhib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8:10:17Z</dcterms:created>
  <dc:creator>Serv2</dc:creator>
  <dc:description/>
  <dc:language>en-US</dc:language>
  <cp:lastModifiedBy>x</cp:lastModifiedBy>
  <dcterms:modified xsi:type="dcterms:W3CDTF">2007-08-23T13:22:32Z</dcterms:modified>
  <cp:revision>158</cp:revision>
  <dc:subject/>
  <dc:title>Diapositiva 1</dc:title>
</cp:coreProperties>
</file>