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9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6BE-7233-42B7-B712-59043F9D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EC6-569A-4DA2-B8E8-5742E695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A1A-F69B-4292-98FA-392B5291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5B8-06BA-45D3-9E74-1C6B316A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7D2-2FD0-454C-955D-0818D49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005-7ABE-4D5D-ACB3-D15A8E94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AA9-BBC8-4770-9F24-5BDA4AF3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A0F-4501-4ADC-A139-7E4D0A5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70D-44F0-4D8B-B775-7BC06106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5AF-A1CC-4910-A3BC-03CDCB2A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6EF-1103-4B7F-8E42-6C34C80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B35-E981-49D6-9C64-3EEB7E7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E955-1963-4D2A-8512-DB2A35EC0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0.xml"/><Relationship Id="rId4" Type="http://schemas.openxmlformats.org/officeDocument/2006/relationships/slide" Target="slide3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124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 NOUVEAU /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2819520"/>
            <a:ext cx="0" cy="11430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8480" y="3244680"/>
            <a:ext cx="188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47920" y="3124080"/>
          <a:ext cx="299880" cy="3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124080"/>
                    <a:ext cx="2998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679720" y="3581280"/>
            <a:ext cx="161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INTERIO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5334120" y="327672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100" y="19"/>
                </a:lnTo>
                <a:lnTo>
                  <a:pt x="100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100"/>
                </a:lnTo>
                <a:lnTo>
                  <a:pt x="19" y="100"/>
                </a:lnTo>
                <a:lnTo>
                  <a:pt x="19" y="77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5334120" y="362412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7"/>
                </a:moveTo>
                <a:lnTo>
                  <a:pt x="40" y="17"/>
                </a:lnTo>
                <a:lnTo>
                  <a:pt x="40" y="40"/>
                </a:lnTo>
                <a:lnTo>
                  <a:pt x="19" y="40"/>
                </a:lnTo>
                <a:lnTo>
                  <a:pt x="19" y="17"/>
                </a:lnTo>
                <a:close/>
                <a:moveTo>
                  <a:pt x="77" y="17"/>
                </a:moveTo>
                <a:lnTo>
                  <a:pt x="100" y="17"/>
                </a:lnTo>
                <a:lnTo>
                  <a:pt x="100" y="40"/>
                </a:lnTo>
                <a:lnTo>
                  <a:pt x="77" y="40"/>
                </a:lnTo>
                <a:lnTo>
                  <a:pt x="77" y="17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5" action="ppaction://hlinksldjump"/>
          </p:cNvPr>
          <p:cNvSpPr/>
          <p:nvPr/>
        </p:nvSpPr>
        <p:spPr>
          <a:xfrm>
            <a:off x="5334120" y="2938320"/>
            <a:ext cx="185760" cy="1857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43000" y="289548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025880" cy="5899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Sillón en madera de p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287960" cy="5823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Trabajos vario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91120" y="533520"/>
            <a:ext cx="4456080" cy="5670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parador</a:t>
            </a: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467000"/>
            <a:ext cx="8534160" cy="41526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Lalique, Charpentier, Major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53080" y="762120"/>
            <a:ext cx="175284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Tiffany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 de pie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29200" y="762120"/>
            <a:ext cx="356868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64911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Tiffany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82680" y="730080"/>
            <a:ext cx="657864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Tiffany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 en favril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392436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Tiffany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 dragonfly en favril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86400" y="685800"/>
            <a:ext cx="293364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64911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 en bronce y vidrio coloreado iridisc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50532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Gallé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 en pasta de vidrio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stilo 1900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8360" cy="4200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70836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Gallé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Gallé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Jarr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429000" cy="5365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952880" y="762120"/>
            <a:ext cx="342900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027320" cy="55944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730080"/>
            <a:ext cx="798840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3200" y="730080"/>
            <a:ext cx="779760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3789360" cy="5898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456080" cy="58989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37824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0192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3864240" cy="5823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bjetos Art Nouveau colección Museo d`Or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4232160" cy="56390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ntrada Metro de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2514600" cy="5626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Majorelle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par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61000" y="380880"/>
            <a:ext cx="3316320" cy="5823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Majorelle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sc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54320" y="730080"/>
            <a:ext cx="463536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Majorelle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529240" y="457200"/>
            <a:ext cx="2712960" cy="5626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Majorelle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scritorio y s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57360" y="730080"/>
            <a:ext cx="422928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Rombaux, Hooseman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ndelabro en plata y marf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67020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Joyas realizadas para Sara Bernar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730080"/>
            <a:ext cx="777240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And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574800" cy="5670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Benson Ind.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ámpara de t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772160" y="533520"/>
            <a:ext cx="3520800" cy="5562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RODUCTOS / Lámpara milflores en cristal de Mu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8839080" y="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39080" y="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77800" y="730080"/>
            <a:ext cx="798840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DE INTERIOR / Charpe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7"/>
                </a:moveTo>
                <a:lnTo>
                  <a:pt x="40" y="17"/>
                </a:lnTo>
                <a:lnTo>
                  <a:pt x="40" y="40"/>
                </a:lnTo>
                <a:lnTo>
                  <a:pt x="19" y="40"/>
                </a:lnTo>
                <a:lnTo>
                  <a:pt x="19" y="17"/>
                </a:lnTo>
                <a:close/>
                <a:moveTo>
                  <a:pt x="77" y="17"/>
                </a:moveTo>
                <a:lnTo>
                  <a:pt x="100" y="17"/>
                </a:lnTo>
                <a:lnTo>
                  <a:pt x="100" y="40"/>
                </a:lnTo>
                <a:lnTo>
                  <a:pt x="77" y="40"/>
                </a:lnTo>
                <a:lnTo>
                  <a:pt x="77" y="17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3909960" cy="5670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Guimard / Metro de Pari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15960" y="730080"/>
            <a:ext cx="791208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7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DE INTERIOR / Charpe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7"/>
                </a:moveTo>
                <a:lnTo>
                  <a:pt x="40" y="17"/>
                </a:lnTo>
                <a:lnTo>
                  <a:pt x="40" y="40"/>
                </a:lnTo>
                <a:lnTo>
                  <a:pt x="19" y="40"/>
                </a:lnTo>
                <a:lnTo>
                  <a:pt x="19" y="17"/>
                </a:lnTo>
                <a:close/>
                <a:moveTo>
                  <a:pt x="77" y="17"/>
                </a:moveTo>
                <a:lnTo>
                  <a:pt x="100" y="17"/>
                </a:lnTo>
                <a:lnTo>
                  <a:pt x="100" y="40"/>
                </a:lnTo>
                <a:lnTo>
                  <a:pt x="77" y="40"/>
                </a:lnTo>
                <a:lnTo>
                  <a:pt x="77" y="17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67760" cy="5397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DE INTERIOR / Charpe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7"/>
                </a:moveTo>
                <a:lnTo>
                  <a:pt x="40" y="17"/>
                </a:lnTo>
                <a:lnTo>
                  <a:pt x="40" y="40"/>
                </a:lnTo>
                <a:lnTo>
                  <a:pt x="19" y="40"/>
                </a:lnTo>
                <a:lnTo>
                  <a:pt x="19" y="17"/>
                </a:lnTo>
                <a:close/>
                <a:moveTo>
                  <a:pt x="77" y="17"/>
                </a:moveTo>
                <a:lnTo>
                  <a:pt x="100" y="17"/>
                </a:lnTo>
                <a:lnTo>
                  <a:pt x="100" y="40"/>
                </a:lnTo>
                <a:lnTo>
                  <a:pt x="77" y="40"/>
                </a:lnTo>
                <a:lnTo>
                  <a:pt x="77" y="17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3987720" cy="5823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DE INTERIOR / Charpen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7"/>
                </a:moveTo>
                <a:lnTo>
                  <a:pt x="40" y="17"/>
                </a:lnTo>
                <a:lnTo>
                  <a:pt x="40" y="40"/>
                </a:lnTo>
                <a:lnTo>
                  <a:pt x="19" y="40"/>
                </a:lnTo>
                <a:lnTo>
                  <a:pt x="19" y="17"/>
                </a:lnTo>
                <a:close/>
                <a:moveTo>
                  <a:pt x="77" y="17"/>
                </a:moveTo>
                <a:lnTo>
                  <a:pt x="100" y="17"/>
                </a:lnTo>
                <a:lnTo>
                  <a:pt x="100" y="40"/>
                </a:lnTo>
                <a:lnTo>
                  <a:pt x="77" y="40"/>
                </a:lnTo>
                <a:lnTo>
                  <a:pt x="77" y="17"/>
                </a:lnTo>
                <a:close/>
                <a:moveTo>
                  <a:pt x="19" y="77"/>
                </a:moveTo>
                <a:lnTo>
                  <a:pt x="40" y="77"/>
                </a:lnTo>
                <a:lnTo>
                  <a:pt x="40" y="98"/>
                </a:lnTo>
                <a:lnTo>
                  <a:pt x="19" y="98"/>
                </a:lnTo>
                <a:lnTo>
                  <a:pt x="19" y="77"/>
                </a:lnTo>
                <a:close/>
              </a:path>
            </a:pathLst>
          </a:custGeom>
          <a:solidFill>
            <a:srgbClr val="a9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479520"/>
            <a:ext cx="7696080" cy="5840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Metro de Paris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3844800" cy="58993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macenes Lafay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1640" y="730080"/>
            <a:ext cx="828072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ntrada Castel Béranger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3826080" cy="5746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 Guim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ntrada Castel Béranger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6440" y="730080"/>
            <a:ext cx="8331120" cy="5397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64911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ARQUITECTURA /Endell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Taller Elvi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0"/>
                </a:moveTo>
                <a:lnTo>
                  <a:pt x="117" y="0"/>
                </a:lnTo>
                <a:lnTo>
                  <a:pt x="117" y="117"/>
                </a:lnTo>
                <a:lnTo>
                  <a:pt x="0" y="117"/>
                </a:lnTo>
                <a:lnTo>
                  <a:pt x="0" y="0"/>
                </a:lnTo>
                <a:close/>
                <a:moveTo>
                  <a:pt x="19" y="19"/>
                </a:moveTo>
                <a:lnTo>
                  <a:pt x="40" y="19"/>
                </a:lnTo>
                <a:lnTo>
                  <a:pt x="40" y="42"/>
                </a:lnTo>
                <a:lnTo>
                  <a:pt x="19" y="42"/>
                </a:lnTo>
                <a:lnTo>
                  <a:pt x="19" y="19"/>
                </a:lnTo>
                <a:close/>
                <a:moveTo>
                  <a:pt x="77" y="19"/>
                </a:moveTo>
                <a:lnTo>
                  <a:pt x="98" y="19"/>
                </a:lnTo>
                <a:lnTo>
                  <a:pt x="98" y="42"/>
                </a:lnTo>
                <a:lnTo>
                  <a:pt x="77" y="42"/>
                </a:lnTo>
                <a:lnTo>
                  <a:pt x="77" y="19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8-26T23:37:25Z</dcterms:modified>
  <cp:revision>156</cp:revision>
  <dc:subject/>
  <dc:title>Diapositiva 1</dc:title>
</cp:coreProperties>
</file>