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6CB-3AB2-4DC6-BE79-B590B08C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C18-26E5-4A2A-8F4B-1F1F0A84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CBB-3D06-4337-B542-88A7ADE4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8D6-8E48-48C9-B458-A6BB4BBD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FEA-DEEE-49C4-BBDA-2A31FEE6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82D-1060-4701-A5A8-47B2AFC6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32D-EDEF-4583-A8BB-88789295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30E-411C-4F31-8178-767535DC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97A-585F-43DD-8F60-D908E893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F7B-75E3-48EA-AEFB-6B755A95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B2A-C606-4F55-9A99-E75E91C9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9FC-0EC5-43B4-90A0-24C00CF0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4FAE-383C-4534-AA66-F81BEE586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" Target="slide8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098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GENDSTIL / Ale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2743200"/>
            <a:ext cx="0" cy="1143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582160" y="2971800"/>
            <a:ext cx="188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EÑO DE PRODUC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47920" y="3098880"/>
          <a:ext cx="299880" cy="29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098880"/>
                    <a:ext cx="2998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5607000" y="3429000"/>
            <a:ext cx="140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EÑO GRÁ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5334120" y="300348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100" y="19"/>
                </a:lnTo>
                <a:lnTo>
                  <a:pt x="100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100"/>
                </a:lnTo>
                <a:lnTo>
                  <a:pt x="19" y="100"/>
                </a:lnTo>
                <a:lnTo>
                  <a:pt x="19" y="77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5334120" y="3460680"/>
            <a:ext cx="185760" cy="18756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800600" y="685800"/>
            <a:ext cx="374652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Reznicek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ortada de lib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048120" y="1981080"/>
            <a:ext cx="5587920" cy="3797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Paul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rteles publicit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Hofbauer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rtel public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0" y="914400"/>
            <a:ext cx="383544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0" y="914400"/>
            <a:ext cx="38098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5372280" cy="3517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71800" y="2209680"/>
            <a:ext cx="5334120" cy="3505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Anónimo, Janselow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ortada de libro y de rev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5800" y="2441520"/>
            <a:ext cx="7835760" cy="3451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2438280"/>
            <a:ext cx="784872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Christiansen, Anónimo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ortadas de rev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984240" y="647640"/>
            <a:ext cx="7175520" cy="5562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685800"/>
            <a:ext cx="7162560" cy="5486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Lutz Ehrenberger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rtel public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Behrens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bjetos de br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" y="609480"/>
            <a:ext cx="3733920" cy="2428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343400" y="609480"/>
            <a:ext cx="1839960" cy="2438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768920" y="3733920"/>
            <a:ext cx="1739880" cy="2412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6673680" y="3733920"/>
            <a:ext cx="1920960" cy="2438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838680" cy="52578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4255920"/>
            <a:ext cx="3913200" cy="1839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graphicFrame>
        <p:nvGraphicFramePr>
          <p:cNvPr id="60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Behrens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bjetos de br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187280"/>
            <a:ext cx="8686800" cy="46548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graphicFrame>
        <p:nvGraphicFramePr>
          <p:cNvPr id="66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Riemerschmid, Eckmann, Galle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il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8763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505320" cy="6006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graphicFrame>
        <p:nvGraphicFramePr>
          <p:cNvPr id="72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Eckmann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Jarr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19720" y="609480"/>
            <a:ext cx="420372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graphicFrame>
        <p:nvGraphicFramePr>
          <p:cNvPr id="78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Paul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But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93280" cy="5824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graphicFrame>
        <p:nvGraphicFramePr>
          <p:cNvPr id="84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Adler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Juego de caf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962520" y="304920"/>
            <a:ext cx="4671720" cy="6045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Eck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95680" y="457200"/>
            <a:ext cx="4077000" cy="5765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GENDSTIL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ipograf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7-08-23T13:08:38Z</dcterms:modified>
  <cp:revision>151</cp:revision>
  <dc:subject/>
  <dc:title>Diapositiva 1</dc:title>
</cp:coreProperties>
</file>