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2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C77-0135-42A7-B41F-6092E98E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406-9A82-4723-8D76-69982A1D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55C-D16E-440A-8614-7E5EC3A2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311-FFFA-4AF9-820A-5E4DDFCB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9D1-6C0C-4E4E-A82F-6902E65E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88E-44D2-46BC-AFB8-D829D7ED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FAD-CBE0-4C73-AE0F-83F10A04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C3B-A8E8-43B0-B993-71CCF9CE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86B-72A2-41F1-BEA7-FB88D857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061-128F-4D1D-80EC-BD626CBF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E15-1F25-478C-8005-C68CE784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CCD-AAA1-43A0-9B8D-5C26E9BA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F881-7B85-47BC-BF3B-123D3BA73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11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1240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 NOUVEAU / 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81480" y="2971800"/>
            <a:ext cx="0" cy="8380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7920" y="3124080"/>
          <a:ext cx="299880" cy="3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124080"/>
                    <a:ext cx="29988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683320" y="3397320"/>
            <a:ext cx="140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EÑO GRÁF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5334120" y="3429000"/>
            <a:ext cx="185760" cy="187200"/>
          </a:xfrm>
          <a:custGeom>
            <a:avLst/>
            <a:gdLst/>
            <a:ahLst/>
            <a:rect l="l" t="t" r="r" b="b"/>
            <a:pathLst>
              <a:path w="117" h="118">
                <a:moveTo>
                  <a:pt x="0" y="0"/>
                </a:moveTo>
                <a:lnTo>
                  <a:pt x="117" y="0"/>
                </a:lnTo>
                <a:lnTo>
                  <a:pt x="117" y="118"/>
                </a:lnTo>
                <a:lnTo>
                  <a:pt x="0" y="118"/>
                </a:lnTo>
                <a:lnTo>
                  <a:pt x="0" y="0"/>
                </a:lnTo>
                <a:close/>
                <a:moveTo>
                  <a:pt x="19" y="20"/>
                </a:moveTo>
                <a:lnTo>
                  <a:pt x="40" y="20"/>
                </a:lnTo>
                <a:lnTo>
                  <a:pt x="40" y="41"/>
                </a:lnTo>
                <a:lnTo>
                  <a:pt x="19" y="41"/>
                </a:lnTo>
                <a:lnTo>
                  <a:pt x="19" y="20"/>
                </a:lnTo>
                <a:close/>
                <a:moveTo>
                  <a:pt x="77" y="20"/>
                </a:moveTo>
                <a:lnTo>
                  <a:pt x="98" y="20"/>
                </a:lnTo>
                <a:lnTo>
                  <a:pt x="98" y="41"/>
                </a:lnTo>
                <a:lnTo>
                  <a:pt x="77" y="41"/>
                </a:lnTo>
                <a:lnTo>
                  <a:pt x="77" y="20"/>
                </a:lnTo>
                <a:close/>
                <a:moveTo>
                  <a:pt x="17" y="77"/>
                </a:moveTo>
                <a:lnTo>
                  <a:pt x="40" y="77"/>
                </a:lnTo>
                <a:lnTo>
                  <a:pt x="40" y="100"/>
                </a:lnTo>
                <a:lnTo>
                  <a:pt x="17" y="100"/>
                </a:lnTo>
                <a:lnTo>
                  <a:pt x="17" y="77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5642280" y="3048120"/>
            <a:ext cx="80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NTU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34120" y="3084480"/>
            <a:ext cx="187200" cy="1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IN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59400" y="730080"/>
            <a:ext cx="3822480" cy="5397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0" y="685800"/>
            <a:ext cx="3809880" cy="541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Lautrec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 para Aristide Bru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3936960" cy="5397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0" y="685800"/>
            <a:ext cx="3962520" cy="541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Lautrec / Ambassadeurs: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ristide Bru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730080"/>
            <a:ext cx="3632040" cy="539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0" y="762120"/>
            <a:ext cx="3657600" cy="533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Lautrec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Jane Av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984240"/>
            <a:ext cx="3390840" cy="504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0" y="990720"/>
            <a:ext cx="342900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Bonard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a revue blan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984240"/>
            <a:ext cx="3594240" cy="504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0" y="990720"/>
            <a:ext cx="35812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Much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Sara Bernar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262480" y="304920"/>
            <a:ext cx="2052720" cy="5975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57800" y="304920"/>
            <a:ext cx="2057400" cy="594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Much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 public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34120" y="806400"/>
            <a:ext cx="2412720" cy="5397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4120" y="838080"/>
            <a:ext cx="2438280" cy="533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Much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e fr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0" y="984240"/>
            <a:ext cx="3124080" cy="5041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990720"/>
            <a:ext cx="31240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Much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 Exposición Universal de St. Lou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3886200" cy="5397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0" y="685800"/>
            <a:ext cx="3886200" cy="541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Much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lend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4025880" cy="539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INTURA / Lautrec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ile en el Moulin Rouge, la Goulue y Valentín le Desossé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31920" y="907920"/>
            <a:ext cx="6680160" cy="5042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914400"/>
            <a:ext cx="670536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Much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Páginas para men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771720" cy="539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Much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ombinaciones de orn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0" y="806400"/>
            <a:ext cx="3746520" cy="5397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0" y="838080"/>
            <a:ext cx="3733920" cy="533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Utamaro, Steinlen, Chèret, Toussaint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es publicit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3962520" cy="5397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86600" y="2819520"/>
            <a:ext cx="15238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685800"/>
            <a:ext cx="3962520" cy="541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Chèret, Chèret, Orazi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es publicit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3898800" cy="5397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19720" y="685800"/>
            <a:ext cx="3886200" cy="541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Grasset, Peske, Paléologue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es publicit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936960" cy="5397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419720" y="762120"/>
            <a:ext cx="3962160" cy="541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Livemont, Meunier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arteles publicit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94240" cy="53974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72000" y="762120"/>
            <a:ext cx="3581280" cy="541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Guimard, Mucha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ombinaciones de orna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0" y="806400"/>
            <a:ext cx="3657600" cy="5397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0" y="838080"/>
            <a:ext cx="3657600" cy="533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Anónimo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Motivos y tipografía fran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419720" y="762120"/>
            <a:ext cx="3809880" cy="5397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419720" y="762120"/>
            <a:ext cx="3809880" cy="541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DISEÑO GRÁFICO / Varios autores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Gráfica francesa-bel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071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952880" y="685800"/>
            <a:ext cx="2679840" cy="5397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952880" y="685800"/>
            <a:ext cx="2667240" cy="541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866080" y="0"/>
          <a:ext cx="277920" cy="2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66080" y="0"/>
                    <a:ext cx="277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INTURA / Lautrec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05320" cy="536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0" y="762120"/>
            <a:ext cx="3505320" cy="533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INTURA / Lautrec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Troupe</a:t>
            </a: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6629400"/>
            <a:ext cx="228600" cy="192240"/>
          </a:xfrm>
          <a:custGeom>
            <a:avLst/>
            <a:gdLst>
              <a:gd name="textAreaLeft" fmla="*/ 12240 w 228600"/>
              <a:gd name="textAreaRight" fmla="*/ 216360 w 228600"/>
              <a:gd name="textAreaTop" fmla="*/ 12240 h 192240"/>
              <a:gd name="textAreaBottom" fmla="*/ 180000 h 192240"/>
            </a:gdLst>
            <a:ahLst/>
            <a:rect l="textAreaLeft" t="textAreaTop" r="textAreaRight" b="textAreaBottom"/>
            <a:pathLst>
              <a:path w="25678" h="21600">
                <a:moveTo>
                  <a:pt x="0" y="0"/>
                </a:moveTo>
                <a:lnTo>
                  <a:pt x="25678" y="0"/>
                </a:lnTo>
                <a:lnTo>
                  <a:pt x="25678" y="21600"/>
                </a:lnTo>
                <a:lnTo>
                  <a:pt x="0" y="21600"/>
                </a:lnTo>
                <a:close/>
              </a:path>
              <a:path fill="lightenLess" w="25678" h="21600">
                <a:moveTo>
                  <a:pt x="0" y="0"/>
                </a:moveTo>
                <a:lnTo>
                  <a:pt x="25678" y="0"/>
                </a:lnTo>
                <a:lnTo>
                  <a:pt x="24278" y="1400"/>
                </a:lnTo>
                <a:lnTo>
                  <a:pt x="1400" y="1400"/>
                </a:lnTo>
                <a:close/>
              </a:path>
              <a:path fill="darken" w="25678" h="21600">
                <a:moveTo>
                  <a:pt x="25678" y="0"/>
                </a:moveTo>
                <a:lnTo>
                  <a:pt x="25678" y="21600"/>
                </a:lnTo>
                <a:lnTo>
                  <a:pt x="24278" y="20200"/>
                </a:lnTo>
                <a:lnTo>
                  <a:pt x="24278" y="1400"/>
                </a:lnTo>
                <a:close/>
              </a:path>
              <a:path fill="darkenLess" w="25678" h="21600">
                <a:moveTo>
                  <a:pt x="25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78" y="20200"/>
                </a:lnTo>
                <a:close/>
              </a:path>
              <a:path fill="lighten" w="25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78" h="21600">
                <a:moveTo>
                  <a:pt x="5832" y="10800"/>
                </a:moveTo>
                <a:lnTo>
                  <a:pt x="19845" y="3794"/>
                </a:lnTo>
                <a:lnTo>
                  <a:pt x="19845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42320" cy="536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762120"/>
            <a:ext cx="7010640" cy="533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INTURA / Lautrec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La payasa</a:t>
            </a: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81280" cy="5397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762120"/>
            <a:ext cx="3581280" cy="541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INTURA / Lautrec / La m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od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763120" y="6553080"/>
            <a:ext cx="380880" cy="268560"/>
          </a:xfrm>
          <a:custGeom>
            <a:avLst/>
            <a:gdLst>
              <a:gd name="textAreaLeft" fmla="*/ 17280 w 380880"/>
              <a:gd name="textAreaRight" fmla="*/ 363600 w 380880"/>
              <a:gd name="textAreaTop" fmla="*/ 17280 h 268560"/>
              <a:gd name="textAreaBottom" fmla="*/ 251280 h 268560"/>
            </a:gdLst>
            <a:ahLst/>
            <a:rect l="textAreaLeft" t="textAreaTop" r="textAreaRight" b="textAreaBottom"/>
            <a:pathLst>
              <a:path w="30622" h="21600">
                <a:moveTo>
                  <a:pt x="0" y="0"/>
                </a:moveTo>
                <a:lnTo>
                  <a:pt x="30622" y="0"/>
                </a:lnTo>
                <a:lnTo>
                  <a:pt x="30622" y="21600"/>
                </a:lnTo>
                <a:lnTo>
                  <a:pt x="0" y="21600"/>
                </a:lnTo>
                <a:close/>
              </a:path>
              <a:path fill="lightenLess" w="30622" h="21600">
                <a:moveTo>
                  <a:pt x="0" y="0"/>
                </a:moveTo>
                <a:lnTo>
                  <a:pt x="30622" y="0"/>
                </a:lnTo>
                <a:lnTo>
                  <a:pt x="29222" y="1400"/>
                </a:lnTo>
                <a:lnTo>
                  <a:pt x="1400" y="1400"/>
                </a:lnTo>
                <a:close/>
              </a:path>
              <a:path fill="darken" w="30622" h="21600">
                <a:moveTo>
                  <a:pt x="30622" y="0"/>
                </a:moveTo>
                <a:lnTo>
                  <a:pt x="30622" y="21600"/>
                </a:lnTo>
                <a:lnTo>
                  <a:pt x="29222" y="20200"/>
                </a:lnTo>
                <a:lnTo>
                  <a:pt x="29222" y="1400"/>
                </a:lnTo>
                <a:close/>
              </a:path>
              <a:path fill="darkenLess" w="30622" h="21600">
                <a:moveTo>
                  <a:pt x="30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22" y="20200"/>
                </a:lnTo>
                <a:close/>
              </a:path>
              <a:path fill="lighten" w="30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22" h="21600">
                <a:moveTo>
                  <a:pt x="8304" y="10800"/>
                </a:moveTo>
                <a:lnTo>
                  <a:pt x="22317" y="3794"/>
                </a:lnTo>
                <a:lnTo>
                  <a:pt x="22317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0" y="984240"/>
            <a:ext cx="3429000" cy="5041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0" y="990720"/>
            <a:ext cx="342900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0" y="984240"/>
            <a:ext cx="3352680" cy="504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INTURA / Lautrec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El toc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990720"/>
            <a:ext cx="33526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INTURA / Lautrec /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Ved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984240"/>
            <a:ext cx="3378240" cy="5041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990720"/>
            <a:ext cx="33526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658332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 NOUVEAU</a:t>
            </a: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 / PINTURA / Chèret / Cromolitografía para Bals de l`Opera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65930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733920" cy="533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0" y="762120"/>
            <a:ext cx="3733920" cy="533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18:10:17Z</dcterms:created>
  <dc:creator>Serv2</dc:creator>
  <dc:description/>
  <dc:language>en-US</dc:language>
  <cp:lastModifiedBy>x</cp:lastModifiedBy>
  <dcterms:modified xsi:type="dcterms:W3CDTF">2007-08-26T23:34:14Z</dcterms:modified>
  <cp:revision>156</cp:revision>
  <dc:subject/>
  <dc:title>Diapositiva 1</dc:title>
</cp:coreProperties>
</file>