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604-62E8-4E55-903C-C1880957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558-B34F-4243-9E9A-E16C9102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12F-1B1C-4AAE-B168-34C34B59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E9E-0D94-4DE4-B869-11B89381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C1-59AA-4142-9718-BCB881C6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EDB-946E-4823-A81F-15E0120E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31E-7A07-478F-B4E9-255B440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5B5-53DE-47AB-B7A3-A4A0EDA6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C93-B526-4A30-9E2D-C0FF6808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A19-F7DE-423C-B3F5-2286989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AB6-A36F-4B1C-AAAD-F97E692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4E6-1809-4736-AC05-AE1A6DA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2C8C-F772-4239-836C-8AEAB4B8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" Target="slide9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8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124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ELA DE GLASGOW / Esco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2590920"/>
            <a:ext cx="0" cy="167616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922720" y="3092400"/>
            <a:ext cx="16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. DE 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3124080"/>
          <a:ext cx="299880" cy="3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124080"/>
                    <a:ext cx="2998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5911920" y="3854520"/>
            <a:ext cx="140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GRÁ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638680" y="312408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100" y="19"/>
                </a:lnTo>
                <a:lnTo>
                  <a:pt x="100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100"/>
                </a:lnTo>
                <a:lnTo>
                  <a:pt x="19" y="100"/>
                </a:lnTo>
                <a:lnTo>
                  <a:pt x="19" y="77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638680" y="275436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5638680" y="3886200"/>
            <a:ext cx="185760" cy="18720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25600" y="271152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7" action="ppaction://hlinksldjump"/>
          </p:cNvPr>
          <p:cNvSpPr/>
          <p:nvPr/>
        </p:nvSpPr>
        <p:spPr>
          <a:xfrm>
            <a:off x="5924880" y="3473280"/>
            <a:ext cx="80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638680" y="3510000"/>
            <a:ext cx="18756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McNair, Macdonald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fiche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638680" y="685800"/>
            <a:ext cx="2165400" cy="5486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38680" y="685800"/>
            <a:ext cx="2133720" cy="5486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81400" y="533520"/>
            <a:ext cx="4276800" cy="5715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ARQUITECTURA / Mackintosh / Arquitectura, objetos y dibu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864640" y="0"/>
          <a:ext cx="27936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4640" y="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89560" y="609480"/>
            <a:ext cx="3905280" cy="5626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864640" y="0"/>
          <a:ext cx="27936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4640" y="0"/>
                    <a:ext cx="279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ARQUITECTURA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scuela de Bellas Artes – Salón de 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29200" y="533520"/>
            <a:ext cx="3487680" cy="5594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2908440" cy="5670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252108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4160" y="571680"/>
            <a:ext cx="8635680" cy="5715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RODUCTOS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obiliario para Southpark 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6160" y="1425600"/>
            <a:ext cx="8769240" cy="4118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PINTURA / Mackintosh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cuar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GLASGOW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/ DISEÑO GRÁFICO / Lightfoot, MacNair /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ortada de libro 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fiche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560920" y="498600"/>
            <a:ext cx="2338560" cy="582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59480" y="501480"/>
            <a:ext cx="23652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23T13:17:04Z</dcterms:modified>
  <cp:revision>157</cp:revision>
  <dc:subject/>
  <dc:title>Diapositiva 1</dc:title>
</cp:coreProperties>
</file>