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FD6-17FC-434E-AA20-1AF3C773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717-CCCA-4E4A-8280-B14C54B5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2CF-A8FB-4C33-A01C-5C27D393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272-8D00-4902-80AA-99BCA870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A62-95B5-45D0-8896-662D7CBC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CD2-3FB8-4A65-9890-87C4BCFA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586-291D-4737-9A9F-3674F8F8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723-3907-43A9-BA91-B7351DD2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9E9-368E-46EF-8ABC-35572B88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F76-776A-401C-B919-27C358CC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8D1-A153-4267-B940-ECCADDF0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25CE-48A0-44CA-BAF0-9E4409B2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BB55-7C89-4F24-A8A2-DACB0B5FA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" Target="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31240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NISMO / 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70280"/>
            <a:ext cx="0" cy="109224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582160" y="3448080"/>
            <a:ext cx="188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EÑO DE PRODUC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447920" y="3124080"/>
          <a:ext cx="299880" cy="3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124080"/>
                    <a:ext cx="29988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5257800" y="3479760"/>
            <a:ext cx="185760" cy="1857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100" y="19"/>
                </a:lnTo>
                <a:lnTo>
                  <a:pt x="100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9" y="77"/>
                </a:moveTo>
                <a:lnTo>
                  <a:pt x="40" y="77"/>
                </a:lnTo>
                <a:lnTo>
                  <a:pt x="40" y="100"/>
                </a:lnTo>
                <a:lnTo>
                  <a:pt x="19" y="100"/>
                </a:lnTo>
                <a:lnTo>
                  <a:pt x="19" y="77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5257800" y="3141720"/>
            <a:ext cx="185760" cy="1857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5567040" y="3098880"/>
            <a:ext cx="129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RNISM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ARQUITECTURA / Montaner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alacio de la mú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864640" y="0"/>
          <a:ext cx="27936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4640" y="0"/>
                    <a:ext cx="2793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" y="609480"/>
            <a:ext cx="822960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864640" y="0"/>
          <a:ext cx="27936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4640" y="0"/>
                    <a:ext cx="2793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52280" y="457200"/>
            <a:ext cx="8686800" cy="5794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RNISM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ARQUITECTURA / Montaner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alacio de la música (deta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38680" y="533520"/>
            <a:ext cx="3027600" cy="55944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864640" y="0"/>
          <a:ext cx="279360" cy="2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64640" y="0"/>
                    <a:ext cx="2793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RNISM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ARQUITECTURA / Ca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RNISM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DE PRODUCTOS / Homar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ill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8153280" cy="5099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990720"/>
            <a:ext cx="8153280" cy="5105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921120" y="533520"/>
            <a:ext cx="4765680" cy="55944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RNISM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DE PRODUCTOS / Masriera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Joy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689040"/>
            <a:ext cx="7315200" cy="52610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RNISM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DE PRODUCTOS / Gargallo, Esc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04920" y="1023840"/>
            <a:ext cx="8458200" cy="48513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RNISM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DE PRODUCTOS / Esc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5097600" cy="5823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RNISMO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DE PRODUCTOS / Esc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8:10:17Z</dcterms:created>
  <dc:creator>Serv2</dc:creator>
  <dc:description/>
  <dc:language>en-US</dc:language>
  <cp:lastModifiedBy>x</cp:lastModifiedBy>
  <dcterms:modified xsi:type="dcterms:W3CDTF">2007-08-15T03:24:50Z</dcterms:modified>
  <cp:revision>153</cp:revision>
  <dc:subject/>
  <dc:title>Diapositiva 1</dc:title>
</cp:coreProperties>
</file>