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437-9675-4A9E-92E1-9169C6C8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63A-D765-4AB0-A0BF-C56B87A9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240-DB18-4BAB-9D14-F9BCD28E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CA1-023E-4216-8CA6-614C510D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A85-EAE4-48D0-A685-39C6A94E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0E4-E2D6-4E91-86D7-29029290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F3C-CC5C-424C-89CB-397C2C58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9D6-B4D8-4143-8A22-2DEEB487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DA2-5977-4774-8DF7-D67910AC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D78-5C09-42BA-B4C2-BE4FE06D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DA1-F3AF-46E5-9167-D8B1022E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10F-0A4A-4532-B319-7E4B748D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AF0A-E14F-484B-A3D1-BE4539C2C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9280" y="0"/>
            <a:ext cx="4572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0"/>
            <a:ext cx="82296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990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ISTORIA DEL DISEÑO ARGEN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523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808080"/>
                </a:solidFill>
                <a:latin typeface="Verdana"/>
              </a:rPr>
              <a:t>Primer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6400800"/>
            <a:ext cx="59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808080"/>
                </a:solidFill>
                <a:latin typeface="Verdana"/>
              </a:rPr>
              <a:t>Ivette Colque -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248520" y="762120"/>
            <a:ext cx="2133360" cy="1678320"/>
            <a:chOff x="6248520" y="762120"/>
            <a:chExt cx="2133360" cy="1678320"/>
          </a:xfrm>
        </p:grpSpPr>
        <p:sp>
          <p:nvSpPr>
            <p:cNvPr id="135" name=""/>
            <p:cNvSpPr/>
            <p:nvPr/>
          </p:nvSpPr>
          <p:spPr>
            <a:xfrm>
              <a:off x="6248520" y="76212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ZapfHumnst Dm BT"/>
                </a:rPr>
                <a:t>Histo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86600" y="9907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ffffff"/>
                  </a:solidFill>
                  <a:latin typeface="ZapfHumnst Dm BT"/>
                </a:rPr>
                <a:t>de l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520" y="1066680"/>
              <a:ext cx="2133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ffffff"/>
                  </a:solidFill>
                  <a:latin typeface="ZapfHumnst Dm BT"/>
                </a:rPr>
                <a:t>Publicid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24480" y="1371600"/>
              <a:ext cx="190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ffffff"/>
                  </a:solidFill>
                  <a:latin typeface="ZapfHumnst Dm BT"/>
                </a:rPr>
                <a:t>Argent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48520" y="762120"/>
            <a:ext cx="2133360" cy="1678320"/>
            <a:chOff x="6248520" y="762120"/>
            <a:chExt cx="2133360" cy="1678320"/>
          </a:xfrm>
        </p:grpSpPr>
        <p:sp>
          <p:nvSpPr>
            <p:cNvPr id="140" name=""/>
            <p:cNvSpPr/>
            <p:nvPr/>
          </p:nvSpPr>
          <p:spPr>
            <a:xfrm>
              <a:off x="6248520" y="76212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ZapfHumnst Dm BT"/>
                </a:rPr>
                <a:t>Histo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6600" y="9907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ffffff"/>
                  </a:solidFill>
                  <a:latin typeface="ZapfHumnst Dm BT"/>
                </a:rPr>
                <a:t>de l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48520" y="1066680"/>
              <a:ext cx="2133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ffffff"/>
                  </a:solidFill>
                  <a:latin typeface="ZapfHumnst Dm BT"/>
                </a:rPr>
                <a:t>Publicida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24480" y="1371600"/>
              <a:ext cx="190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200" spc="-1" strike="noStrike">
                  <a:solidFill>
                    <a:srgbClr val="ffffff"/>
                  </a:solidFill>
                  <a:latin typeface="ZapfHumnst Dm BT"/>
                </a:rPr>
                <a:t>Argent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800600" y="518148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Medic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Pil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628800" cy="533376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147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4057920" cy="5562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724280" y="5181480"/>
            <a:ext cx="2590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Ho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Compañía Primitiva de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156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724280" y="5181480"/>
            <a:ext cx="152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Bebi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Cerve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38480" cy="567684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165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724280" y="5181480"/>
            <a:ext cx="152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í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2948040" cy="533376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174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724280" y="5181480"/>
            <a:ext cx="152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í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36680" cy="533376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183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724280" y="5165640"/>
            <a:ext cx="15242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Monterr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503520" cy="533376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192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724280" y="5165640"/>
            <a:ext cx="152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Monterr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37306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201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24280" y="5181480"/>
            <a:ext cx="20574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Ho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Lámpara I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105160" cy="316080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210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724280" y="5181480"/>
            <a:ext cx="20574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omer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Tiendas San Ju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60240" y="609480"/>
            <a:ext cx="3435480" cy="556272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219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724280" y="5181480"/>
            <a:ext cx="12193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Siglo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500280" cy="521964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228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143000"/>
            <a:ext cx="4572000" cy="1087920"/>
            <a:chOff x="0" y="1143000"/>
            <a:chExt cx="4572000" cy="1087920"/>
          </a:xfrm>
        </p:grpSpPr>
        <p:sp>
          <p:nvSpPr>
            <p:cNvPr id="52" name=""/>
            <p:cNvSpPr/>
            <p:nvPr/>
          </p:nvSpPr>
          <p:spPr>
            <a:xfrm>
              <a:off x="0" y="114300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9280" y="114300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0560" y="1193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9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05120" y="1163520"/>
              <a:ext cx="2666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Aparece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 “Bric-a-Brac” 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revista semanal, literaria jocosa, dirigida por Carlos Haus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0" y="2514600"/>
            <a:ext cx="4572000" cy="1331280"/>
            <a:chOff x="0" y="2514600"/>
            <a:chExt cx="4572000" cy="1331280"/>
          </a:xfrm>
        </p:grpSpPr>
        <p:sp>
          <p:nvSpPr>
            <p:cNvPr id="57" name=""/>
            <p:cNvSpPr/>
            <p:nvPr/>
          </p:nvSpPr>
          <p:spPr>
            <a:xfrm>
              <a:off x="0" y="251460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9280" y="251460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0560" y="2565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8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05120" y="2535120"/>
              <a:ext cx="2666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El 8 de Octubre se lanza el primer número de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 “Caras y Caretas”. 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Semanario artístico, literario y de actualida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905120" y="48769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Participaban Manuel Mayol, y José Álvarez (Fray Mocho). Luego lo sucedió Carlos Correa Lun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05520" y="762120"/>
            <a:ext cx="36925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724280" y="5181480"/>
            <a:ext cx="18288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Vuelta y 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282840" cy="5333760"/>
          </a:xfrm>
          <a:prstGeom prst="rect">
            <a:avLst/>
          </a:prstGeom>
          <a:ln w="0">
            <a:noFill/>
          </a:ln>
        </p:spPr>
      </p:pic>
      <p:grpSp>
        <p:nvGrpSpPr>
          <p:cNvPr id="236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237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800600" y="5181480"/>
            <a:ext cx="1447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iseñador: Mu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3732120" cy="541008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246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800600" y="5241960"/>
            <a:ext cx="2133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iseñador: Collivadi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5000" y="762120"/>
            <a:ext cx="3651480" cy="533376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255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800600" y="5318280"/>
            <a:ext cx="1447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iseñador: Vi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700440" cy="53337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264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800600" y="5318280"/>
            <a:ext cx="14479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iseñador: Ca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670200" cy="533376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273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800600" y="5318280"/>
            <a:ext cx="1447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iseñador: Té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492360" cy="533376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282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5318280"/>
            <a:ext cx="1447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iseñador: Alme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681360" cy="533376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291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800600" y="5318280"/>
            <a:ext cx="1447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iseñador: Jimén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460680" cy="533376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300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800600" y="5318280"/>
            <a:ext cx="1447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iseñador: Vacca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724200" cy="533376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309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800600" y="5318280"/>
            <a:ext cx="1447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iseñador: C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902040" cy="533376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318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66960" y="762120"/>
            <a:ext cx="3605040" cy="5486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52880" y="762120"/>
            <a:ext cx="3463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4800600" y="5318280"/>
            <a:ext cx="1447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iseñador: F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943080" cy="533376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327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800600" y="5318280"/>
            <a:ext cx="1447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igarril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Diseñador: Fortu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902040" cy="533376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336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724280" y="5165640"/>
            <a:ext cx="15242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Automóv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252600" cy="533376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345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800600" y="5318280"/>
            <a:ext cx="1447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Cosmét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Briss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711600" cy="533376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354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4270320" cy="5790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55560" y="990720"/>
            <a:ext cx="3649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3260520" cy="5186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809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</a:t>
            </a:r>
            <a:r>
              <a:rPr b="1" lang="es-AR" sz="1800" spc="-1" strike="noStrike">
                <a:solidFill>
                  <a:srgbClr val="000099"/>
                </a:solidFill>
                <a:latin typeface="Verdana"/>
              </a:rPr>
              <a:t>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762120"/>
            <a:ext cx="8381880" cy="601200"/>
            <a:chOff x="0" y="762120"/>
            <a:chExt cx="8381880" cy="601200"/>
          </a:xfrm>
        </p:grpSpPr>
        <p:sp>
          <p:nvSpPr>
            <p:cNvPr id="86" name=""/>
            <p:cNvSpPr/>
            <p:nvPr/>
          </p:nvSpPr>
          <p:spPr>
            <a:xfrm>
              <a:off x="0" y="76212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280" y="76212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0560" y="8128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9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5120" y="782640"/>
              <a:ext cx="647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Aparece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 “Guignol”, 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doce páginas en dos ediciones una de lujo en colores y papel mate y otra popular en neg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1523880"/>
            <a:ext cx="8381880" cy="457200"/>
            <a:chOff x="0" y="1523880"/>
            <a:chExt cx="8381880" cy="457200"/>
          </a:xfrm>
        </p:grpSpPr>
        <p:sp>
          <p:nvSpPr>
            <p:cNvPr id="91" name=""/>
            <p:cNvSpPr/>
            <p:nvPr/>
          </p:nvSpPr>
          <p:spPr>
            <a:xfrm>
              <a:off x="0" y="152388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280" y="152388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560" y="15746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9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5120" y="1544400"/>
              <a:ext cx="647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Aparece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Don Quijote Moderno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2286000"/>
            <a:ext cx="5562720" cy="1574640"/>
            <a:chOff x="0" y="2286000"/>
            <a:chExt cx="5562720" cy="1574640"/>
          </a:xfrm>
        </p:grpSpPr>
        <p:sp>
          <p:nvSpPr>
            <p:cNvPr id="96" name=""/>
            <p:cNvSpPr/>
            <p:nvPr/>
          </p:nvSpPr>
          <p:spPr>
            <a:xfrm>
              <a:off x="0" y="228600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280" y="228600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0560" y="2336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9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5120" y="2306520"/>
              <a:ext cx="36576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Eustaquio Pellecier renuncia a “Caras y Caretas” y lanza una nueva revista que competirá con ella llamada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P.B.T., Semanario Infantil Ilustrado” para niños de 6 a 80 año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56200" y="1447920"/>
            <a:ext cx="3187800" cy="50799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4114800"/>
            <a:ext cx="5638680" cy="601200"/>
            <a:chOff x="0" y="4114800"/>
            <a:chExt cx="5638680" cy="601200"/>
          </a:xfrm>
        </p:grpSpPr>
        <p:sp>
          <p:nvSpPr>
            <p:cNvPr id="102" name=""/>
            <p:cNvSpPr/>
            <p:nvPr/>
          </p:nvSpPr>
          <p:spPr>
            <a:xfrm>
              <a:off x="0" y="4114800"/>
              <a:ext cx="457200" cy="4568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280" y="4114800"/>
              <a:ext cx="1455840" cy="456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0560" y="41652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9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05120" y="4135320"/>
              <a:ext cx="373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Aparecen las revistas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El Hogar”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 y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Mundo Argentino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0" y="5065560"/>
            <a:ext cx="5715000" cy="1331280"/>
            <a:chOff x="0" y="5065560"/>
            <a:chExt cx="5715000" cy="1331280"/>
          </a:xfrm>
        </p:grpSpPr>
        <p:sp>
          <p:nvSpPr>
            <p:cNvPr id="107" name=""/>
            <p:cNvSpPr/>
            <p:nvPr/>
          </p:nvSpPr>
          <p:spPr>
            <a:xfrm>
              <a:off x="0" y="5065560"/>
              <a:ext cx="45720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280" y="5065560"/>
              <a:ext cx="145584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0560" y="5116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Verdana"/>
                </a:rPr>
                <a:t>19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05120" y="5086080"/>
              <a:ext cx="3809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Cao se aleja de “Caras y Caretas” y junto a Luis Pardo y Carlos Correa abren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Fray Mocho”</a:t>
              </a:r>
              <a:r>
                <a:rPr b="0" lang="es-AR" sz="1600" spc="-1" strike="noStrike">
                  <a:solidFill>
                    <a:srgbClr val="000000"/>
                  </a:solidFill>
                  <a:latin typeface="Verdana"/>
                </a:rPr>
                <a:t> como </a:t>
              </a:r>
              <a:r>
                <a:rPr b="1" lang="es-AR" sz="1600" spc="-1" strike="noStrike">
                  <a:solidFill>
                    <a:srgbClr val="000000"/>
                  </a:solidFill>
                  <a:latin typeface="Verdana"/>
                </a:rPr>
                <a:t>“Semanario festivo, literario, artístico y de actualidad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762120"/>
            <a:ext cx="761976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Verdana"/>
              </a:rPr>
              <a:t>Influencia Art Nouv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Influencia sobre todo del Art Nouveau franc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ujer sensual como eje central de las composi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Preponderancia de la línea curva y sinu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otivos fitomorfos y zoomorf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iguras contorneadas y remates circul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Supresión del fo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simet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Tipografías prolijamente dibujadas, de formas orgán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lgunas influencias italianas en el tratamiento de formas masculinas y en la aplicación de colores llama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800600" y="518148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1 -19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Tien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A. Cabe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198960" cy="53337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119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00600" y="518148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Año: 1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Rubro: Au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Empresa: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47840" cy="533376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6248520" y="762120"/>
            <a:ext cx="2133000" cy="609480"/>
            <a:chOff x="6248520" y="762120"/>
            <a:chExt cx="2133000" cy="609480"/>
          </a:xfrm>
        </p:grpSpPr>
        <p:sp>
          <p:nvSpPr>
            <p:cNvPr id="128" name=""/>
            <p:cNvSpPr/>
            <p:nvPr/>
          </p:nvSpPr>
          <p:spPr>
            <a:xfrm>
              <a:off x="6248520" y="762120"/>
              <a:ext cx="2133000" cy="609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48520" y="898560"/>
              <a:ext cx="213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Verdana"/>
                </a:rPr>
                <a:t>1900-19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280" y="0"/>
            <a:ext cx="14558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0"/>
            <a:ext cx="723888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HISTORIA DEL DISEÑO ARGENTINO - Primer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22:17:50Z</dcterms:created>
  <dc:creator>Natalia</dc:creator>
  <dc:description/>
  <dc:language>en-US</dc:language>
  <cp:lastModifiedBy>A</cp:lastModifiedBy>
  <dcterms:modified xsi:type="dcterms:W3CDTF">2008-03-17T11:42:37Z</dcterms:modified>
  <cp:revision>28</cp:revision>
  <dc:subject/>
  <dc:title>Presentación de PowerPoint</dc:title>
</cp:coreProperties>
</file>