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CB4-715B-4325-97A6-8967D130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FF3-D63E-46E2-832F-3A740E3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A3D-FAD1-4B03-BE99-D9DAAC0B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9BD-1CFD-4F57-BF88-FC48F173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EE4-7310-48C4-8A73-F73C2A0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947-80B4-494F-B352-1501FD10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0C7-B321-4B30-A7C8-B7986D7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E84-51D6-4D9E-A7B7-A8A80DF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A5B-C88F-4785-9439-6A8C5BDF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DEF-835D-4CBF-93BD-CEF1C8A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953-E3AC-478C-AF0D-80F6D38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FEC-F2A5-4365-9F82-C59E8A3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275A-7617-4AA1-AE4B-D45AB8CAA9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3048120"/>
            <a:ext cx="27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AND CRA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2286000"/>
            <a:ext cx="0" cy="21589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389560" y="2482920"/>
            <a:ext cx="16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. DE 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3048120"/>
          <a:ext cx="3002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002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414400" y="316872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. GRÁ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800" y="3886200"/>
            <a:ext cx="134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. INTERI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5127480" y="251460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100" y="19"/>
                </a:lnTo>
                <a:lnTo>
                  <a:pt x="100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100"/>
                </a:lnTo>
                <a:lnTo>
                  <a:pt x="19" y="100"/>
                </a:lnTo>
                <a:lnTo>
                  <a:pt x="19" y="77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27480" y="3549600"/>
            <a:ext cx="185760" cy="184320"/>
          </a:xfrm>
          <a:custGeom>
            <a:avLst/>
            <a:gdLst/>
            <a:ahLst/>
            <a:rect l="l" t="t" r="r" b="b"/>
            <a:pathLst>
              <a:path w="117" h="116">
                <a:moveTo>
                  <a:pt x="0" y="0"/>
                </a:moveTo>
                <a:lnTo>
                  <a:pt x="117" y="0"/>
                </a:lnTo>
                <a:lnTo>
                  <a:pt x="117" y="116"/>
                </a:lnTo>
                <a:lnTo>
                  <a:pt x="0" y="116"/>
                </a:lnTo>
                <a:lnTo>
                  <a:pt x="0" y="0"/>
                </a:lnTo>
                <a:close/>
                <a:moveTo>
                  <a:pt x="19" y="18"/>
                </a:moveTo>
                <a:lnTo>
                  <a:pt x="40" y="18"/>
                </a:lnTo>
                <a:lnTo>
                  <a:pt x="40" y="41"/>
                </a:lnTo>
                <a:lnTo>
                  <a:pt x="19" y="41"/>
                </a:lnTo>
                <a:lnTo>
                  <a:pt x="19" y="18"/>
                </a:lnTo>
                <a:close/>
                <a:moveTo>
                  <a:pt x="77" y="18"/>
                </a:moveTo>
                <a:lnTo>
                  <a:pt x="100" y="18"/>
                </a:lnTo>
                <a:lnTo>
                  <a:pt x="100" y="41"/>
                </a:lnTo>
                <a:lnTo>
                  <a:pt x="77" y="41"/>
                </a:lnTo>
                <a:lnTo>
                  <a:pt x="77" y="18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27480" y="392904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27480" y="286236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27480" y="3200400"/>
            <a:ext cx="185760" cy="18720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4400" y="281952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800" y="3505320"/>
            <a:ext cx="97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. TEXT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118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Thonet / Sillas en madera de haya curv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8440" y="533520"/>
            <a:ext cx="8540640" cy="5554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RQUITECTURA / Voysey / Casa de camp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657360"/>
            <a:ext cx="8540640" cy="5287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RQUITECTURA / Webb / Casa Roj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39243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RQUITECTURA / Webb / Chimenea Casa Roj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419112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486400"/>
            <a:ext cx="2916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Sillón ajustable en ébano y terciop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Sillón Savi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Banco de roble de Morris &amp; C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488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Webb  / Gabinete diseñado para la firma Morris &amp; 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382284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Gimson  / Sillas de nog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Godwin / Silla de roble con cuero y o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209680" y="1219320"/>
            <a:ext cx="4667400" cy="4876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09680" y="1219320"/>
            <a:ext cx="4648320" cy="487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259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Banco de roble con marques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0412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Jones / Diseños para pape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9495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Percier - Fontaine / Cama (1801)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3875040" cy="5867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Morris / Dibujo orna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Crane / Dibujos ornamen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641680" y="812880"/>
            <a:ext cx="3860640" cy="5232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838080"/>
            <a:ext cx="38102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80040" y="533520"/>
            <a:ext cx="425448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Mucha / Diseños de pági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132440" cy="5791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Voysey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8763120" y="65991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Voysey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91640" y="648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662040"/>
            <a:ext cx="8153280" cy="5584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39621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Morris / Dibujo orna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398772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Voysey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54320" y="533520"/>
            <a:ext cx="4680000" cy="5753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Lanenby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630360"/>
            <a:ext cx="7543800" cy="5618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GRÁFICO / Morris / Papel pinta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1529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Morris / Diseño para chint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024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Pugin / Objeto de adorno (1841)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00068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Morris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1403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Morris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1719360"/>
            <a:ext cx="6756480" cy="43005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Mackmurdo y Morris / Diseños tex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97040" y="609480"/>
            <a:ext cx="395604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TEXTIL / Mackmurdo / Diseño text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61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083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INTERIORES / Interiores Arts &amp; Cra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448308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INTERIORES / Interiores Arts &amp; Cra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348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INTERIORES / Interiores Arts &amp; Cra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093760" y="533520"/>
            <a:ext cx="4864320" cy="5786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INTERIORES / Interiores Arts &amp; Cra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891640" y="0"/>
            <a:ext cx="252360" cy="2523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533520"/>
            <a:ext cx="391176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Jarr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38484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Collinson / Sil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410184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Morris &amp; Co – Gimson – Punnet / Sillas y Sillón Gi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546120"/>
            <a:ext cx="59436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Dresser / Mobiliario Gaz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Dresser / Cuchar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676520" y="1050840"/>
            <a:ext cx="5537160" cy="512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76520" y="1046160"/>
            <a:ext cx="5562360" cy="510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546960"/>
            <a:ext cx="9144000" cy="30456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858160" y="0"/>
          <a:ext cx="285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8160" y="0"/>
                    <a:ext cx="285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57684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AND CRAFT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PRODUCTOS / Dresser / Mecedora en hierro y terciopelo ro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987560" y="546120"/>
            <a:ext cx="5168880" cy="576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33520"/>
            <a:ext cx="5181840" cy="579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8-03-13T14:44:24Z</dcterms:modified>
  <cp:revision>143</cp:revision>
  <dc:subject/>
  <dc:title>Diapositiva 1</dc:title>
</cp:coreProperties>
</file>