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329-4A1A-431A-9926-AAB26FE6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8AE-0B22-41F1-A6D9-7711E06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D85-CC0A-4FF5-B556-7FC0C744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E6D-4E39-4ED2-BA67-8029FF27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3BC-13FD-4C69-9380-02186D08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D27-2542-4A6E-A8F2-F9C987F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2BC-B34B-400E-A9A1-BB8538CE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73D-4219-4D60-88A8-1C82537C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83F-2109-4F31-A70C-445FB54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B30-112F-407D-BE25-3E3D1EB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506-6E5E-442B-B113-7730BFB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2DC-AC1F-467D-8122-96BADCE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AA44-DA7A-4A2F-9772-63646F4B8A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5320" y="3168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ELA DE 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59200" y="2819520"/>
            <a:ext cx="0" cy="12189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09840" y="324468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876920" y="3276720"/>
          <a:ext cx="19836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276720"/>
                    <a:ext cx="198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666880" y="3276720"/>
          <a:ext cx="293760" cy="29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276720"/>
                    <a:ext cx="29376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583320"/>
            <a:ext cx="6934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ULLIVAN / GAGE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523880" y="685800"/>
            <a:ext cx="594360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E BARON JENNEY / MANHATTAN BUILDING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364500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  <a:ea typeface="Times New Roman"/>
              </a:rPr>
              <a:t>BURNHAM - ROOT / RELIANCE BUILDING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20700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URNHAM - ROOT / MONADNOCK BUILDING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685800"/>
            <a:ext cx="29336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TER ELLIS / ORIEL CHAMBERS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62520" y="685800"/>
            <a:ext cx="42926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533520"/>
            <a:ext cx="374652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BURNHAM / FLATIRON (LA PLANCH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VARIOS ESTILOS ARQUITECTÓ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84320" y="1320840"/>
            <a:ext cx="8775360" cy="431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5530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ICHARDSON / AMES BUILDING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774720"/>
            <a:ext cx="6566040" cy="5245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52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ICHARDSON / AUSTIN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36600" y="730080"/>
            <a:ext cx="847080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  <a:ea typeface="Times New Roman"/>
              </a:rPr>
              <a:t> SULLIVAN - ADLER / AUDITORIUM DE CHICAGO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352680" y="762120"/>
            <a:ext cx="476280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5530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  <a:ea typeface="Times New Roman"/>
              </a:rPr>
              <a:t>SULLIVAN / ALMACÉN DE CARSON, PIRIE, SCOLT Y CIA.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124080" y="698400"/>
            <a:ext cx="54230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553080"/>
            <a:ext cx="723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ULLIVAN / ALMACÉN DE CARSON, PIRIE, SCOLT Y CIA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876920" y="685800"/>
            <a:ext cx="370836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55308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ULLIVAN / ALMACÉN DE CARSON, PIRIE, SCOLT Y CIA. (DETA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48320" y="698400"/>
            <a:ext cx="356868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ULLIVAN / ALMACÉN DE CARSON, PIRIE, SCOLT Y CIA (DETA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99960" y="730080"/>
            <a:ext cx="834408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. DE CHICAGO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s-ES" sz="1200" spc="-1" strike="noStrike">
                <a:solidFill>
                  <a:srgbClr val="dddddd"/>
                </a:solidFill>
                <a:latin typeface="Arial"/>
              </a:rPr>
              <a:t>ARQUITECTURA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ULLIVAN / GUARANTY BUILDING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267080" y="762120"/>
            <a:ext cx="370836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8-03-13T14:45:46Z</dcterms:modified>
  <cp:revision>94</cp:revision>
  <dc:subject/>
  <dc:title>Diapositiva 1</dc:title>
</cp:coreProperties>
</file>