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1CD5-E3DA-44AF-ADC7-B5764E02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C5E-97A4-4B4A-BE46-73534217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35BD-1D90-41F9-B6C6-2FD46EC9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2C2-A582-4E16-9550-AA006A3A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0493-A63E-4BC8-8701-E32311BD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820-27CE-4EB3-9758-D544E7A0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D59-DAF1-4A1C-ACE6-42A21FA2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1C8-3917-47A7-AE3B-532E4572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219-2FCB-40DB-93AB-D0CE878E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45C-93AF-4263-B550-D6B59051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B5ED-136F-4FBC-8E26-F253D175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B2C-E184-4B5C-A231-4A9B1B0D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293C-A1AD-425A-BE30-ACAA4ABFF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9280" y="0"/>
            <a:ext cx="45720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0"/>
            <a:ext cx="822960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990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ISTORIA DEL DISEÑO ARGEN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523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808080"/>
                </a:solidFill>
                <a:latin typeface="Verdana"/>
              </a:rPr>
              <a:t>Primer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6400800"/>
            <a:ext cx="59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808080"/>
                </a:solidFill>
                <a:latin typeface="Verdana"/>
              </a:rPr>
              <a:t>Ivette Colque -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</a:t>
            </a: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762120"/>
            <a:ext cx="8381880" cy="601200"/>
            <a:chOff x="0" y="762120"/>
            <a:chExt cx="8381880" cy="601200"/>
          </a:xfrm>
        </p:grpSpPr>
        <p:sp>
          <p:nvSpPr>
            <p:cNvPr id="154" name=""/>
            <p:cNvSpPr/>
            <p:nvPr/>
          </p:nvSpPr>
          <p:spPr>
            <a:xfrm>
              <a:off x="0" y="76212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280" y="76212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0560" y="8128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8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05120" y="782640"/>
              <a:ext cx="6476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La Nación”</a:t>
              </a: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, surgió de un periódico anterior llamado 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Nación Argenti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71480" y="1905120"/>
            <a:ext cx="7601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</a:t>
            </a: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762120"/>
            <a:ext cx="8381880" cy="457200"/>
            <a:chOff x="0" y="762120"/>
            <a:chExt cx="8381880" cy="457200"/>
          </a:xfrm>
        </p:grpSpPr>
        <p:sp>
          <p:nvSpPr>
            <p:cNvPr id="164" name=""/>
            <p:cNvSpPr/>
            <p:nvPr/>
          </p:nvSpPr>
          <p:spPr>
            <a:xfrm>
              <a:off x="0" y="76212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9280" y="76212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0560" y="8128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8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05120" y="782640"/>
              <a:ext cx="647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La Vanguardia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0" y="4581360"/>
            <a:ext cx="8381880" cy="457200"/>
            <a:chOff x="0" y="4581360"/>
            <a:chExt cx="8381880" cy="457200"/>
          </a:xfrm>
        </p:grpSpPr>
        <p:sp>
          <p:nvSpPr>
            <p:cNvPr id="169" name=""/>
            <p:cNvSpPr/>
            <p:nvPr/>
          </p:nvSpPr>
          <p:spPr>
            <a:xfrm>
              <a:off x="0" y="458136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9280" y="458136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0560" y="46321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9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05120" y="4601880"/>
              <a:ext cx="647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La Razón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0" y="5445000"/>
            <a:ext cx="8381880" cy="457200"/>
            <a:chOff x="0" y="5445000"/>
            <a:chExt cx="8381880" cy="457200"/>
          </a:xfrm>
        </p:grpSpPr>
        <p:sp>
          <p:nvSpPr>
            <p:cNvPr id="174" name=""/>
            <p:cNvSpPr/>
            <p:nvPr/>
          </p:nvSpPr>
          <p:spPr>
            <a:xfrm>
              <a:off x="0" y="544500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9280" y="544500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0560" y="54957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9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05120" y="5465520"/>
              <a:ext cx="647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La Crítica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605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</a:t>
            </a: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3657600"/>
            <a:ext cx="4572000" cy="1646640"/>
            <a:chOff x="0" y="3657600"/>
            <a:chExt cx="4572000" cy="1646640"/>
          </a:xfrm>
        </p:grpSpPr>
        <p:sp>
          <p:nvSpPr>
            <p:cNvPr id="52" name=""/>
            <p:cNvSpPr/>
            <p:nvPr/>
          </p:nvSpPr>
          <p:spPr>
            <a:xfrm>
              <a:off x="0" y="365760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9280" y="365760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18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120" y="3678120"/>
              <a:ext cx="2666880" cy="16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Aparecen los 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prospectos</a:t>
              </a: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, antecedentes de futuras campañas publicitarias, que anunciaban la aparición de periódicos. 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(Prospecto de las cuatro cosa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905120" y="685800"/>
            <a:ext cx="632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Época convulsionada que da surgimiento al humor Rosista, como el  </a:t>
            </a: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“El Restaurador</a:t>
            </a: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”, entre ot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Por la situación política el romanticismo motiva a los pensadores argentin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Alberdi prepara el advenimiento del positivismo. Filosofía americana clara, democrática, progresiva y popu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2514600"/>
            <a:ext cx="7391520" cy="771120"/>
            <a:chOff x="0" y="2514600"/>
            <a:chExt cx="7391520" cy="771120"/>
          </a:xfrm>
        </p:grpSpPr>
        <p:grpSp>
          <p:nvGrpSpPr>
            <p:cNvPr id="57" name=""/>
            <p:cNvGrpSpPr/>
            <p:nvPr/>
          </p:nvGrpSpPr>
          <p:grpSpPr>
            <a:xfrm>
              <a:off x="0" y="2514600"/>
              <a:ext cx="7391520" cy="771120"/>
              <a:chOff x="0" y="2514600"/>
              <a:chExt cx="7391520" cy="771120"/>
            </a:xfrm>
          </p:grpSpPr>
          <p:sp>
            <p:nvSpPr>
              <p:cNvPr id="58" name=""/>
              <p:cNvSpPr/>
              <p:nvPr/>
            </p:nvSpPr>
            <p:spPr>
              <a:xfrm>
                <a:off x="0" y="2514600"/>
                <a:ext cx="457200" cy="4572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49280" y="2514600"/>
                <a:ext cx="1455840" cy="4572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05120" y="2535120"/>
                <a:ext cx="548640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600" spc="-1" strike="noStrike">
                    <a:solidFill>
                      <a:srgbClr val="000000"/>
                    </a:solidFill>
                    <a:latin typeface="Verdana"/>
                  </a:rPr>
                  <a:t>Surge así la prensa contraria a Rosas, en el exterior por exiliados, como </a:t>
                </a:r>
                <a:r>
                  <a:rPr b="1" lang="es-AR" sz="1600" spc="-1" strike="noStrike">
                    <a:solidFill>
                      <a:srgbClr val="000000"/>
                    </a:solidFill>
                    <a:latin typeface="Verdana"/>
                  </a:rPr>
                  <a:t>“El grito Arjentino”</a:t>
                </a:r>
                <a:r>
                  <a:rPr b="0" lang="es-AR" sz="1600" spc="-1" strike="noStrike">
                    <a:solidFill>
                      <a:srgbClr val="000000"/>
                    </a:solidFill>
                    <a:latin typeface="Verdana"/>
                  </a:rPr>
                  <a:t>, que se le adjudica a Alberd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457200" y="25909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83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64000" y="3141720"/>
            <a:ext cx="2759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</a:t>
            </a: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914400"/>
            <a:ext cx="8305920" cy="457200"/>
            <a:chOff x="0" y="914400"/>
            <a:chExt cx="8305920" cy="457200"/>
          </a:xfrm>
        </p:grpSpPr>
        <p:sp>
          <p:nvSpPr>
            <p:cNvPr id="68" name=""/>
            <p:cNvSpPr/>
            <p:nvPr/>
          </p:nvSpPr>
          <p:spPr>
            <a:xfrm>
              <a:off x="0" y="91440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9280" y="91440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2840" y="965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85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05120" y="935280"/>
              <a:ext cx="6400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Aparece 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“Aniceto el Gallo”</a:t>
              </a: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 con temas de actual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6068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</a:t>
            </a: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914400"/>
            <a:ext cx="8305920" cy="1335960"/>
            <a:chOff x="0" y="914400"/>
            <a:chExt cx="8305920" cy="1335960"/>
          </a:xfrm>
        </p:grpSpPr>
        <p:sp>
          <p:nvSpPr>
            <p:cNvPr id="78" name=""/>
            <p:cNvSpPr/>
            <p:nvPr/>
          </p:nvSpPr>
          <p:spPr>
            <a:xfrm>
              <a:off x="0" y="914400"/>
              <a:ext cx="457200" cy="4568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9280" y="914400"/>
              <a:ext cx="1455840" cy="456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2840" y="9648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8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05120" y="934920"/>
              <a:ext cx="6400800" cy="13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Aparece el 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periódico semanal, independiente, satírico, burlesco y de caricatura “El Mosquito”,</a:t>
              </a: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 bajo la dirección del dibujante francés Enrique Meyer, y como jefe de redacción Eduardo Wilde (Julio Bambocha o Sabañó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1968 se incorporaron Faría, Eduardo Sojo y Enrique Ste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2428920"/>
            <a:ext cx="25956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</a:t>
            </a: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74600" y="749160"/>
            <a:ext cx="3497400" cy="5359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32360" y="888840"/>
            <a:ext cx="37209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</a:t>
            </a: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9651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1700280"/>
            <a:ext cx="8381880" cy="601200"/>
            <a:chOff x="0" y="1700280"/>
            <a:chExt cx="8381880" cy="601200"/>
          </a:xfrm>
        </p:grpSpPr>
        <p:sp>
          <p:nvSpPr>
            <p:cNvPr id="95" name=""/>
            <p:cNvSpPr/>
            <p:nvPr/>
          </p:nvSpPr>
          <p:spPr>
            <a:xfrm>
              <a:off x="0" y="170028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280" y="170028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2840" y="1751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8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05120" y="1720800"/>
              <a:ext cx="6476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Durante la presidencia de Sarmiento período excepcional de educación. Aparecen textos educativos y periódico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2693880" cy="4241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2523960" cy="424152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476280"/>
            <a:ext cx="8316720" cy="1217520"/>
            <a:chOff x="0" y="476280"/>
            <a:chExt cx="8316720" cy="1217520"/>
          </a:xfrm>
        </p:grpSpPr>
        <p:sp>
          <p:nvSpPr>
            <p:cNvPr id="102" name=""/>
            <p:cNvSpPr/>
            <p:nvPr/>
          </p:nvSpPr>
          <p:spPr>
            <a:xfrm>
              <a:off x="0" y="476280"/>
              <a:ext cx="457560" cy="5108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640" y="476280"/>
              <a:ext cx="1457640" cy="510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4280" y="5328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85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07640" y="499320"/>
              <a:ext cx="640908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Anales de la Educación común”</a:t>
              </a: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  la primera revista de asuntos educativos, publicada por Sarmien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Durante el período presidencial de Mitre se inicia una etapa de impulso educativ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</a:t>
            </a: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76200" y="914400"/>
            <a:ext cx="367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99"/>
                </a:solidFill>
                <a:latin typeface="Verdana"/>
              </a:rPr>
              <a:t>PRIMERA CAMPAÑA PUBLICI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2362320"/>
            <a:ext cx="4191120" cy="1087560"/>
            <a:chOff x="0" y="2362320"/>
            <a:chExt cx="4191120" cy="1087560"/>
          </a:xfrm>
        </p:grpSpPr>
        <p:sp>
          <p:nvSpPr>
            <p:cNvPr id="112" name=""/>
            <p:cNvSpPr/>
            <p:nvPr/>
          </p:nvSpPr>
          <p:spPr>
            <a:xfrm>
              <a:off x="0" y="2362320"/>
              <a:ext cx="457200" cy="4568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9280" y="2362320"/>
              <a:ext cx="1455840" cy="456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2840" y="24127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8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5120" y="2382480"/>
              <a:ext cx="228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Melville Sewell Bagley trabaja en la droguería La Estrella y crea la 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Heperidi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905120" y="137160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Con la lucha por la independencia aparecen los volantes humorísticos, lenguaje artístico y arma crítica frente al cuerpo polít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4114800"/>
            <a:ext cx="4191120" cy="2061360"/>
            <a:chOff x="0" y="4114800"/>
            <a:chExt cx="4191120" cy="2061360"/>
          </a:xfrm>
        </p:grpSpPr>
        <p:sp>
          <p:nvSpPr>
            <p:cNvPr id="118" name=""/>
            <p:cNvSpPr/>
            <p:nvPr/>
          </p:nvSpPr>
          <p:spPr>
            <a:xfrm>
              <a:off x="0" y="411480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9280" y="411480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2840" y="41655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87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4135320"/>
              <a:ext cx="228600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El Congreso aprueba la ley para la creación de la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 Oficina Nacional de Patentes y Marcas</a:t>
              </a: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 obteniendo la 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Hesperidina</a:t>
              </a: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 la marca registrada 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N°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213372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</a:t>
            </a: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762120"/>
            <a:ext cx="8381880" cy="601200"/>
            <a:chOff x="0" y="762120"/>
            <a:chExt cx="8381880" cy="601200"/>
          </a:xfrm>
        </p:grpSpPr>
        <p:sp>
          <p:nvSpPr>
            <p:cNvPr id="128" name=""/>
            <p:cNvSpPr/>
            <p:nvPr/>
          </p:nvSpPr>
          <p:spPr>
            <a:xfrm>
              <a:off x="0" y="76212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280" y="76212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0560" y="8128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87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782640"/>
              <a:ext cx="6476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La Cotorra”, </a:t>
              </a: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Semanario cómico jocoso con caricaturas colorea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0" y="1523880"/>
            <a:ext cx="8381880" cy="601200"/>
            <a:chOff x="0" y="1523880"/>
            <a:chExt cx="8381880" cy="601200"/>
          </a:xfrm>
        </p:grpSpPr>
        <p:sp>
          <p:nvSpPr>
            <p:cNvPr id="133" name=""/>
            <p:cNvSpPr/>
            <p:nvPr/>
          </p:nvSpPr>
          <p:spPr>
            <a:xfrm>
              <a:off x="0" y="152388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9280" y="152388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0560" y="15746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88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05120" y="1544400"/>
              <a:ext cx="6476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Don Quijote” </a:t>
              </a: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con características similares a “El Mosquito”, fundado por Eduardo Soj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05120" y="2181240"/>
            <a:ext cx="632448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</a:t>
            </a: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19760" y="914400"/>
            <a:ext cx="331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99"/>
                </a:solidFill>
                <a:latin typeface="Verdana"/>
              </a:rPr>
              <a:t>PRIMEROS DIARIOS Y REV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1341360"/>
            <a:ext cx="8381880" cy="457200"/>
            <a:chOff x="0" y="1341360"/>
            <a:chExt cx="8381880" cy="457200"/>
          </a:xfrm>
        </p:grpSpPr>
        <p:sp>
          <p:nvSpPr>
            <p:cNvPr id="144" name=""/>
            <p:cNvSpPr/>
            <p:nvPr/>
          </p:nvSpPr>
          <p:spPr>
            <a:xfrm>
              <a:off x="0" y="134136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9280" y="134136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0560" y="13921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86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1361880"/>
              <a:ext cx="647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La Prensa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411280" y="1916280"/>
            <a:ext cx="647712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22:17:50Z</dcterms:created>
  <dc:creator>Natalia</dc:creator>
  <dc:description/>
  <dc:language>en-US</dc:language>
  <cp:lastModifiedBy>A</cp:lastModifiedBy>
  <dcterms:modified xsi:type="dcterms:W3CDTF">2008-03-17T12:06:36Z</dcterms:modified>
  <cp:revision>31</cp:revision>
  <dc:subject/>
  <dc:title>Presentación de PowerPoint</dc:title>
</cp:coreProperties>
</file>