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D9B-FCE7-4869-BF0A-B7CC098B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6F7-E7BF-4405-9336-51E9659D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652-09A8-4AA3-B4CF-BB7A56C2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061-4A2A-4BE9-9F7C-AF32408D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C75-1124-4B2E-8EFC-795FEF5D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A9A-189D-4703-97C0-6137EE95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F0A-AA1A-4A38-8AC8-49F234BF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079-9416-42D0-8E5C-3323FC0C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CA1-C277-49A9-BFAF-6FC848D1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DE4-AD59-4E30-8B7E-1EB4642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11B-5C35-43E9-BD0C-A4F13ED7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812-64DE-4DA2-935C-C322278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BFE1-1115-4FC6-A88A-DA692A1D9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200" y="2757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107680" y="2789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N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0600" y="2833560"/>
            <a:ext cx="21420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Mujer vestida de azu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41960" y="558720"/>
            <a:ext cx="3368520" cy="5613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Mujer con per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07000" y="609480"/>
            <a:ext cx="4003560" cy="556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Théodore Rousseau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Abreva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19520" y="1689120"/>
            <a:ext cx="5841720" cy="4483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nstant Troyon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Regreso al atarde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24320" y="888840"/>
            <a:ext cx="4438800" cy="528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harles François Daubigny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La si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768760" y="2147760"/>
            <a:ext cx="5918040" cy="402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Jean François Mill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Ange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52680" y="1725480"/>
            <a:ext cx="53085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Mill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Las espigad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8120" y="1962000"/>
            <a:ext cx="5613120" cy="421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Millet / Campesino extendiendo ab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8120" y="2062080"/>
            <a:ext cx="5689440" cy="4110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Mill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Costurera (aguafue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70280" y="762120"/>
            <a:ext cx="3787920" cy="541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Mill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Mujer vaciando un balde (grab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84840" y="685800"/>
            <a:ext cx="3763800" cy="563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Jean Baptiste Camille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Sant`Ang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76520" y="2266920"/>
            <a:ext cx="7035840" cy="390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Gustave Courb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El s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43200" y="2276640"/>
            <a:ext cx="5994360" cy="389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urb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Courbet con perr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8120" y="1555920"/>
            <a:ext cx="5613120" cy="4616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urb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Buenos días, señor Courb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76720" y="1473120"/>
            <a:ext cx="5384520" cy="4699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urb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Madame Proud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1092240"/>
            <a:ext cx="4140360" cy="5079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urb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Los picapedr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95480" y="1771560"/>
            <a:ext cx="5791320" cy="440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urb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Entierro en Orn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720" y="2548080"/>
            <a:ext cx="8051760" cy="3624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urbe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El estudio del ar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58720" y="1442880"/>
            <a:ext cx="8051760" cy="4729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Honoré Daumier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Las lavand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87800" y="685800"/>
            <a:ext cx="3648240" cy="5486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Daumier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La Re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241880" y="685800"/>
            <a:ext cx="4457520" cy="5486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Daumier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El levan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71800" y="1819440"/>
            <a:ext cx="5689440" cy="4352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uente de 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2085840"/>
            <a:ext cx="6239160" cy="408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Daumier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Don Quijote y Sancho P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48120" y="2019240"/>
            <a:ext cx="55371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Daumier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The Blue Stockings (litografí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419720" y="1092240"/>
            <a:ext cx="4241520" cy="5079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El venda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66880" y="1882800"/>
            <a:ext cx="6019920" cy="4287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El va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09680" y="2124000"/>
            <a:ext cx="6527880" cy="4048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Iglesia de la Marissel cerca de Beauv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91080" y="711360"/>
            <a:ext cx="4095720" cy="5460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Villa de Av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0" y="139716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Catedral de Char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137120" y="558720"/>
            <a:ext cx="4575240" cy="5613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883908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5530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LISM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/ PINTURA</a:t>
            </a:r>
            <a:r>
              <a:rPr b="0" lang="es-ES" sz="16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/ Corot / 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Gitana con pande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48360" y="711360"/>
            <a:ext cx="3564000" cy="5613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7-05-08T15:31:35Z</dcterms:modified>
  <cp:revision>135</cp:revision>
  <dc:subject/>
  <dc:title>Diapositiva 1</dc:title>
</cp:coreProperties>
</file>