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11D1-4965-46BA-A749-3A9DCC7D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3692-B983-4E12-9D7D-D2B3C98A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B9CE-BEFB-46E7-91FB-D9D34286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AACE-E2FB-4668-8B90-C56EA522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5F6E-C39C-4E91-9FB3-549A56F2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05BD-5DBD-4492-B5C6-1A45F59B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8489-B495-4F41-9E3B-7324B20F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1921-D3AE-4E87-8F05-30DC7A1B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3B40-9CEE-43B2-8749-BA9594DA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B82D-ACEC-45D3-86BA-6CFD9770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3AE3-D38F-4767-9736-DFD4294A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108F-BF13-449B-A27E-7798B8D5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F8A3-FC36-452C-A297-CF99AA160E5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9280" y="0"/>
            <a:ext cx="45720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0"/>
            <a:ext cx="822960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990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ISTORIA DEL DISEÑO ARGEN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1523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808080"/>
                </a:solidFill>
                <a:latin typeface="Verdana"/>
              </a:rPr>
              <a:t>Primer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6400800"/>
            <a:ext cx="59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808080"/>
                </a:solidFill>
                <a:latin typeface="Verdana"/>
              </a:rPr>
              <a:t>Ivette Colque -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</a:t>
            </a: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762120"/>
            <a:ext cx="7072200" cy="580680"/>
            <a:chOff x="0" y="762120"/>
            <a:chExt cx="7072200" cy="580680"/>
          </a:xfrm>
        </p:grpSpPr>
        <p:sp>
          <p:nvSpPr>
            <p:cNvPr id="52" name=""/>
            <p:cNvSpPr/>
            <p:nvPr/>
          </p:nvSpPr>
          <p:spPr>
            <a:xfrm>
              <a:off x="0" y="838080"/>
              <a:ext cx="45720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9280" y="838080"/>
              <a:ext cx="145584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2840" y="8888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17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29040" y="762120"/>
              <a:ext cx="4943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Primera impren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Juan Bautista Neumann, José Serrano e indígena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0" y="1676520"/>
            <a:ext cx="4724280" cy="1310760"/>
            <a:chOff x="0" y="1676520"/>
            <a:chExt cx="4724280" cy="1310760"/>
          </a:xfrm>
        </p:grpSpPr>
        <p:sp>
          <p:nvSpPr>
            <p:cNvPr id="57" name=""/>
            <p:cNvSpPr/>
            <p:nvPr/>
          </p:nvSpPr>
          <p:spPr>
            <a:xfrm>
              <a:off x="0" y="1752480"/>
              <a:ext cx="45720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9280" y="1752480"/>
              <a:ext cx="145584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72840" y="18032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17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05120" y="1676520"/>
              <a:ext cx="28191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Primera realiza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gráfica argenti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La diferencia ent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lo temporal y lo eterno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Matirologi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48440" y="1600200"/>
            <a:ext cx="3427200" cy="4978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05120" y="4038480"/>
            <a:ext cx="29718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Tendencia al equilibrio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Eje vertical 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En algunos casos es abigarrado, dando más importancia a la ilustradores gráficos que aplicaban áreas texturizadas. (influencia indíge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905120" y="3429000"/>
            <a:ext cx="2690640" cy="457200"/>
            <a:chOff x="1905120" y="3429000"/>
            <a:chExt cx="2690640" cy="457200"/>
          </a:xfrm>
        </p:grpSpPr>
        <p:sp>
          <p:nvSpPr>
            <p:cNvPr id="64" name=""/>
            <p:cNvSpPr/>
            <p:nvPr/>
          </p:nvSpPr>
          <p:spPr>
            <a:xfrm>
              <a:off x="1905120" y="3429000"/>
              <a:ext cx="2690640" cy="45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05120" y="3505320"/>
              <a:ext cx="26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99"/>
                  </a:solidFill>
                  <a:latin typeface="Verdana"/>
                </a:rPr>
                <a:t>CARACTERÍSTIC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</a:t>
            </a: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762120"/>
            <a:ext cx="5964120" cy="580680"/>
            <a:chOff x="0" y="762120"/>
            <a:chExt cx="5964120" cy="580680"/>
          </a:xfrm>
        </p:grpSpPr>
        <p:sp>
          <p:nvSpPr>
            <p:cNvPr id="71" name=""/>
            <p:cNvSpPr/>
            <p:nvPr/>
          </p:nvSpPr>
          <p:spPr>
            <a:xfrm>
              <a:off x="0" y="838080"/>
              <a:ext cx="45720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9280" y="838080"/>
              <a:ext cx="145584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2840" y="8888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17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46600" y="762120"/>
              <a:ext cx="391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Explicación del Catechis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Nicolás Yapuguai y Padre Paulo Restiv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3225600" cy="5079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28880" y="2362320"/>
            <a:ext cx="2666880" cy="22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Tendencia al equilibrio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Eje vertical 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En otros casos se resaltaba la tipografía y predominaba la simplicidad compositiva (influencia francesa del siglo XVI de Henri Estienne, época dorada de la tipografía europe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05120" y="1752480"/>
            <a:ext cx="2690640" cy="457200"/>
            <a:chOff x="1905120" y="1752480"/>
            <a:chExt cx="2690640" cy="457200"/>
          </a:xfrm>
        </p:grpSpPr>
        <p:sp>
          <p:nvSpPr>
            <p:cNvPr id="78" name=""/>
            <p:cNvSpPr/>
            <p:nvPr/>
          </p:nvSpPr>
          <p:spPr>
            <a:xfrm>
              <a:off x="1905120" y="1752480"/>
              <a:ext cx="2690640" cy="45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05120" y="1828800"/>
              <a:ext cx="26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99"/>
                  </a:solidFill>
                  <a:latin typeface="Verdana"/>
                </a:rPr>
                <a:t>CARACTERÍSTIC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</a:t>
            </a: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55680" y="838080"/>
            <a:ext cx="28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99"/>
                </a:solidFill>
                <a:latin typeface="Verdana"/>
              </a:rPr>
              <a:t>PERIÓDICOS Y GACETIL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1341360"/>
            <a:ext cx="2690640" cy="457200"/>
            <a:chOff x="0" y="1341360"/>
            <a:chExt cx="2690640" cy="457200"/>
          </a:xfrm>
        </p:grpSpPr>
        <p:sp>
          <p:nvSpPr>
            <p:cNvPr id="86" name=""/>
            <p:cNvSpPr/>
            <p:nvPr/>
          </p:nvSpPr>
          <p:spPr>
            <a:xfrm>
              <a:off x="0" y="1341360"/>
              <a:ext cx="2690640" cy="45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1417320"/>
              <a:ext cx="26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000099"/>
                  </a:solidFill>
                  <a:latin typeface="Verdana"/>
                </a:rPr>
                <a:t>CARACTERÍSTIC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2627280" y="1268280"/>
            <a:ext cx="61214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Continúa la tendencia franc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Diseño de páginas simples, rígidas, escasos ornamentos y gran énfasis en la tipografí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3141720"/>
            <a:ext cx="5562720" cy="1067400"/>
            <a:chOff x="0" y="3141720"/>
            <a:chExt cx="5562720" cy="1067400"/>
          </a:xfrm>
        </p:grpSpPr>
        <p:sp>
          <p:nvSpPr>
            <p:cNvPr id="90" name=""/>
            <p:cNvSpPr/>
            <p:nvPr/>
          </p:nvSpPr>
          <p:spPr>
            <a:xfrm>
              <a:off x="0" y="3217680"/>
              <a:ext cx="45720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280" y="3217680"/>
              <a:ext cx="145584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2840" y="3268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17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05120" y="3141720"/>
              <a:ext cx="3657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Real Imprenta de Niños Expósitos en Buenos Ai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Francisco Antonio Cabello y Mes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comienza la actividad periodístic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0" y="5013360"/>
            <a:ext cx="5638680" cy="1310760"/>
            <a:chOff x="0" y="5013360"/>
            <a:chExt cx="5638680" cy="1310760"/>
          </a:xfrm>
        </p:grpSpPr>
        <p:sp>
          <p:nvSpPr>
            <p:cNvPr id="95" name=""/>
            <p:cNvSpPr/>
            <p:nvPr/>
          </p:nvSpPr>
          <p:spPr>
            <a:xfrm>
              <a:off x="0" y="5013360"/>
              <a:ext cx="45720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9280" y="5013360"/>
              <a:ext cx="145584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2840" y="50641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18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05120" y="5013360"/>
              <a:ext cx="37335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Telégrafo mercantil, rural, político, económico e historiográfico del Río de la Pl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Sociedad Patriótica, Literaria y Económ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796000" y="1989000"/>
            <a:ext cx="29941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</a:t>
            </a: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838080"/>
            <a:ext cx="8153280" cy="580680"/>
            <a:chOff x="0" y="838080"/>
            <a:chExt cx="8153280" cy="580680"/>
          </a:xfrm>
        </p:grpSpPr>
        <p:sp>
          <p:nvSpPr>
            <p:cNvPr id="105" name=""/>
            <p:cNvSpPr/>
            <p:nvPr/>
          </p:nvSpPr>
          <p:spPr>
            <a:xfrm>
              <a:off x="0" y="838080"/>
              <a:ext cx="45720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9280" y="838080"/>
              <a:ext cx="145584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2840" y="8888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180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05120" y="838080"/>
              <a:ext cx="6248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Semanario de Agricultura, Industria y Comerci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editado por Juan Hipólito Vieytes, primer periodista argentin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0" y="1905120"/>
            <a:ext cx="5562720" cy="580680"/>
            <a:chOff x="0" y="1905120"/>
            <a:chExt cx="5562720" cy="580680"/>
          </a:xfrm>
        </p:grpSpPr>
        <p:sp>
          <p:nvSpPr>
            <p:cNvPr id="110" name=""/>
            <p:cNvSpPr/>
            <p:nvPr/>
          </p:nvSpPr>
          <p:spPr>
            <a:xfrm>
              <a:off x="0" y="1905120"/>
              <a:ext cx="45720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9280" y="1905120"/>
              <a:ext cx="145584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2840" y="19558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180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05120" y="1905120"/>
              <a:ext cx="3657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Gazeta del Gobierno de Buenos Ai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0" y="2743200"/>
            <a:ext cx="8153280" cy="580680"/>
            <a:chOff x="0" y="2743200"/>
            <a:chExt cx="8153280" cy="580680"/>
          </a:xfrm>
        </p:grpSpPr>
        <p:sp>
          <p:nvSpPr>
            <p:cNvPr id="115" name=""/>
            <p:cNvSpPr/>
            <p:nvPr/>
          </p:nvSpPr>
          <p:spPr>
            <a:xfrm>
              <a:off x="0" y="2743200"/>
              <a:ext cx="45720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9280" y="2743200"/>
              <a:ext cx="145584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2840" y="27939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180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2743200"/>
              <a:ext cx="6248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Correo de Comerc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Fundado por Manuel Belgran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0" y="3657600"/>
            <a:ext cx="5410080" cy="580680"/>
            <a:chOff x="0" y="3657600"/>
            <a:chExt cx="5410080" cy="580680"/>
          </a:xfrm>
        </p:grpSpPr>
        <p:sp>
          <p:nvSpPr>
            <p:cNvPr id="120" name=""/>
            <p:cNvSpPr/>
            <p:nvPr/>
          </p:nvSpPr>
          <p:spPr>
            <a:xfrm>
              <a:off x="0" y="3657600"/>
              <a:ext cx="45720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9280" y="3657600"/>
              <a:ext cx="145584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2840" y="3708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18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05120" y="3657600"/>
              <a:ext cx="350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La Gazeta de Buenos Ai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Por Mariano Moren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0" y="4648320"/>
            <a:ext cx="5105520" cy="580680"/>
            <a:chOff x="0" y="4648320"/>
            <a:chExt cx="5105520" cy="580680"/>
          </a:xfrm>
        </p:grpSpPr>
        <p:sp>
          <p:nvSpPr>
            <p:cNvPr id="125" name=""/>
            <p:cNvSpPr/>
            <p:nvPr/>
          </p:nvSpPr>
          <p:spPr>
            <a:xfrm>
              <a:off x="0" y="4648320"/>
              <a:ext cx="45720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9280" y="4648320"/>
              <a:ext cx="145584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2840" y="46990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18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05120" y="4648320"/>
              <a:ext cx="3200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Primer decreto de Libertad de Pren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0" y="5532480"/>
            <a:ext cx="5334120" cy="457200"/>
            <a:chOff x="0" y="5532480"/>
            <a:chExt cx="5334120" cy="457200"/>
          </a:xfrm>
        </p:grpSpPr>
        <p:sp>
          <p:nvSpPr>
            <p:cNvPr id="130" name=""/>
            <p:cNvSpPr/>
            <p:nvPr/>
          </p:nvSpPr>
          <p:spPr>
            <a:xfrm>
              <a:off x="0" y="5532480"/>
              <a:ext cx="45720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9280" y="5532480"/>
              <a:ext cx="145584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2840" y="55832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183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05120" y="5532480"/>
              <a:ext cx="342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Gacetín La Mo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778360" y="1523880"/>
            <a:ext cx="32133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</a:t>
            </a: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4080" y="914400"/>
            <a:ext cx="221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99"/>
                </a:solidFill>
                <a:latin typeface="Verdana"/>
              </a:rPr>
              <a:t>REVISTAS SATÍR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0" y="4508640"/>
            <a:ext cx="4191120" cy="1646280"/>
            <a:chOff x="0" y="4508640"/>
            <a:chExt cx="4191120" cy="1646280"/>
          </a:xfrm>
        </p:grpSpPr>
        <p:sp>
          <p:nvSpPr>
            <p:cNvPr id="141" name=""/>
            <p:cNvSpPr/>
            <p:nvPr/>
          </p:nvSpPr>
          <p:spPr>
            <a:xfrm>
              <a:off x="0" y="4508640"/>
              <a:ext cx="457200" cy="4568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9280" y="4508640"/>
              <a:ext cx="1455840" cy="456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1800" y="4559040"/>
              <a:ext cx="10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1819-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05120" y="4528800"/>
              <a:ext cx="2286000" cy="16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En 1819 Francisco de Paula Castañeda se le atribuye la primera caricatura política aparecida en </a:t>
              </a: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“El Suplemento al Argos”</a:t>
              </a: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905120" y="137160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Con la lucha por la independencia aparecen los volantes humorísticos, lenguaje artístico y arma crítica frente al cuerpo polític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95760" y="2057400"/>
            <a:ext cx="3152880" cy="43941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771640" y="2060640"/>
            <a:ext cx="148608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22:17:50Z</dcterms:created>
  <dc:creator>Natalia</dc:creator>
  <dc:description/>
  <dc:language>en-US</dc:language>
  <cp:lastModifiedBy>A</cp:lastModifiedBy>
  <dcterms:modified xsi:type="dcterms:W3CDTF">2008-03-17T11:26:36Z</dcterms:modified>
  <cp:revision>28</cp:revision>
  <dc:subject/>
  <dc:title>Presentación de PowerPoint</dc:title>
</cp:coreProperties>
</file>