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EE3-E2C3-4C16-82A9-79151A5F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1AB-EB8E-4711-AB49-FB8695B5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153-550E-4ACB-BE0C-9DD72D16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F2D-6856-493A-8B3F-A4560559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B3F-16C7-4812-BBED-3AE5D55A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E64-DB7A-41BE-A891-6DAD5057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E2B-27B4-4940-AD95-FADAB6EB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959-5D97-44E8-9AAB-DB847AB6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CDA-9A6C-4AAF-9178-DB800439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530-C1B2-4F0A-8D1D-4B8C8640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6E1-260E-4494-ADCB-0AE4F0D6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835-D767-4629-929D-10355DCA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9496-C843-4281-8B49-7F0D84D26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879640"/>
            <a:ext cx="7620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GoudyOlSt BT"/>
              </a:rPr>
              <a:t>Goo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55640" y="2365200"/>
            <a:ext cx="5616720" cy="401652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84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Estados U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659640" y="4734000"/>
            <a:ext cx="1728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Earl C. Tupper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Recipientes de polietileno moldeado, fabricante Tupper Plastics, 194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652840" y="765000"/>
            <a:ext cx="3719520" cy="56167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Estados U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659640" y="5557680"/>
            <a:ext cx="1728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Henry Dreyfuss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Proporciones huma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Estados U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87400" y="546120"/>
            <a:ext cx="4843440" cy="6083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659640" y="5557680"/>
            <a:ext cx="1728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Charles y Ray Eames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Sillón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 Dax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, 1948-195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Estados U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2563920"/>
            <a:ext cx="5616720" cy="3767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59640" y="4459320"/>
            <a:ext cx="17287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Charles y Ray Eames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Sillón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 Pax-1 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y mesas con parte superior laminada para Herman Miller, hacia 195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Estados U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2658960"/>
            <a:ext cx="5616720" cy="3722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59640" y="5008680"/>
            <a:ext cx="1728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Charles y Ray Eames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Butaca 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n° 670 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y otomán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 n° 671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para Herman Miller, 19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Estados U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1190520"/>
            <a:ext cx="6048360" cy="5280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59640" y="5283360"/>
            <a:ext cx="1728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Eero Saarinen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Silla y reposapiés 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Womb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para Knoll, 1946-194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844640"/>
            <a:ext cx="3665520" cy="453708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Estados U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716360" y="5557680"/>
            <a:ext cx="3672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Eero Saarinen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Silla 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modelo n° 150 Tulipán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para Knoll Associates, 1955-19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3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Estados U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3527640" cy="5616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16360" y="5008680"/>
            <a:ext cx="3672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Eero Saarinen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Silla 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modelo Tulipán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para Knoll Associates, 1955-1957. Compuesta de dos piezas, una de aluminio para la base y una de fibra de vidrio para el as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459720"/>
            <a:chOff x="0" y="0"/>
            <a:chExt cx="9144000" cy="45972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9144000" cy="4572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GoudyOlSt BT"/>
                </a:rPr>
                <a:t>Estados Uni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1860480"/>
            <a:ext cx="5975640" cy="4722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59640" y="5283360"/>
            <a:ext cx="1728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GoudyOlSt BT"/>
              </a:rPr>
              <a:t>Harry Bertoia.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 Silla de descanso</a:t>
            </a:r>
            <a:r>
              <a:rPr b="0" i="1" lang="es-AR" sz="1800" spc="-1" strike="noStrike">
                <a:solidFill>
                  <a:srgbClr val="000000"/>
                </a:solidFill>
                <a:latin typeface="GoudyOlSt BT"/>
              </a:rPr>
              <a:t> 22 o Diamante</a:t>
            </a:r>
            <a:r>
              <a:rPr b="0" lang="es-AR" sz="1800" spc="-1" strike="noStrike">
                <a:solidFill>
                  <a:srgbClr val="000000"/>
                </a:solidFill>
                <a:latin typeface="GoudyOlSt BT"/>
              </a:rPr>
              <a:t>, 195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8:16:23Z</dcterms:created>
  <dc:creator>A</dc:creator>
  <dc:description/>
  <dc:language>en-US</dc:language>
  <cp:lastModifiedBy>A</cp:lastModifiedBy>
  <dcterms:modified xsi:type="dcterms:W3CDTF">2007-11-05T18:16:59Z</dcterms:modified>
  <cp:revision>1</cp:revision>
  <dc:subject/>
  <dc:title>Diapositiva 1</dc:title>
</cp:coreProperties>
</file>