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F8C-8CF4-439D-B480-B5D6EE0B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090-7BEB-4E77-8A09-0D94296E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5D2-E3F0-4F44-868F-6431F43A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6E7-1E4D-42D7-B079-24C64B39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D7A-6328-45A1-9E75-B375EDC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6C0-D9C6-4626-A057-1969310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5B6-EA97-4987-ABB5-5792253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382-FA01-45CA-BE47-3F74368C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993-E913-44E5-B9C3-9B724C06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2F2-5CF1-43D3-AEB1-A223139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9E7-B307-4616-B3B9-61C2CBEC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362-2946-4849-B20C-19680AC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792B-F8FB-4CC6-8311-6FF092EF9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00360" y="2492280"/>
            <a:ext cx="36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Garamond"/>
              </a:rPr>
              <a:t>Sty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Henry Dreyf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268280"/>
            <a:ext cx="7200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1903 – 1972 / Norte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Comenzó trabajando como escenógrafo y en 1929 inauguró su pri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estudio de dis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Tuvo como maestro a Bel Geddes antes de hacerse un nombre en la Bell Telephone Company con el diseño del clásico Bell 300 en 1933. También trabajó para América Airlines, Lockheed, Termos y Hoo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Su mayor legado al diseño y a la ergonomía fue la profunda investigación sobre antropometría y sus descubrimientos, publicados en sus lib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Designing for people (1955) y The measure of man (19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Antropo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Estudio de la variación física del hombre, basado en procedimientos mét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Erg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Estudio de datos biológicos y tecnológicos aplicados a problemas de mutua adaptación entre el hombre y la máquin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90880" y="2637000"/>
            <a:ext cx="5468760" cy="379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73080"/>
            <a:ext cx="45370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Henry Dreyfu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6045120"/>
            <a:ext cx="30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Dreyfuss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Teléfono Bell 300 / 19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1640" y="126828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1833 – 1960 / Norte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Iniciado en el ambiente publicitario, Teague trabajó para grandes firmas como Eastman Kodak, Ford, Texaco y Boeing. En esta última empresa se destacó particularmente en el diseño interior de los av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73080"/>
            <a:ext cx="45370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Walter Dorwin T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56880"/>
            <a:ext cx="4537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Walter Dorwin T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2394000"/>
            <a:ext cx="4535640" cy="398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5805360"/>
            <a:ext cx="289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Teag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Copas Embassy / 19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Walter Dorwin Te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51480" y="1916280"/>
            <a:ext cx="3597120" cy="4394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580068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Tea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Brownie Nº 2 Beau (rediseño) / 1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268280"/>
            <a:ext cx="720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1893 – 1986 / Fran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Llega a Nueva York a los 16 años, con la experiencia de que el diseño podía ser divertido y rentable, a raíz del diseño de un avión de juguete que construyó, patentó y vendió en su país de or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Para promocionarse hizo imprimir una tarjeta que decía entre dos productos del mismo precio, función y calidad se venderá mejor el más bon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Iniciado como diseñador de modas y escaparates para grandes tiendas, dejó su huella en electrodomésticos, decoración de interiores, uniformes, arquitectura, en casi toda la variedad de transportes: barcos, aviones, autobuses, autos y helicópteros, llegando incluso al equipamiento del Skylab para la Nasa, sin olvidar marcas, envases de productos y exposi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Su ascenso vertiginoso comenzó con el diseño de una fotocopiadora para la empresa Gestetner, que se mantuvo en el mercado por más de 4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580068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Fotocopiadora Gestetner / 19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91200" y="1123920"/>
            <a:ext cx="3052800" cy="526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84280" y="1130400"/>
            <a:ext cx="23320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1268280"/>
            <a:ext cx="7200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Su consigna lo feo se vende mal se convirtió en idea directriz de toda una generación de diseñadores, y no sólo en al ámbito estadounid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Llegó a dirigir tres estudios de diseño con aproximadamente 50 profesionales cada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Se nacionalizó norteamericano en 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Llevó un estilo de vida grandioso y personal. Su mundo abarcaba científicos, monarcas, ingenieros, presidentes y artistas de todo 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268280"/>
            <a:ext cx="7200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Co fundador y presidente de la Sociedad Norteamericana de Diseño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Miembro del Royal Designer to Industry, British Royal Society of Arts, Lond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Distinción de Honor de la American Society of Industrial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Ciudadano de honor de Francia, Nueva York, Chicago y Palm Spring, Califor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Miembro del Comité Estatal para la Ciencia y la Tecnología de la URSS y consultor de Diseño Industrial del Gobierno de Mosc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Distinciones honoríficas en Universidades, dentro y fuera de EEU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Desde 1967, consultor de habitabilidad de los programas Saturno y Apolo, Skylab y proyectos Shuttle Orb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71640" y="2241720"/>
            <a:ext cx="7561080" cy="3813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580536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Ferrocarriles de Pensylvania / 19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268280"/>
            <a:ext cx="720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Crisis económica de 19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Superpro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Abundanci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speculación en la bo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Caída de la Bo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Gran Depresión (de 1929 a 19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Recesión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Las fábricas detienen su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Desocu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45720"/>
            <a:ext cx="3816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Antecedentes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2082960"/>
            <a:ext cx="6480000" cy="3506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60451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Hupmobile / 19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19440" y="1268280"/>
            <a:ext cx="3651480" cy="5061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71640" y="60451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Heladera Coldspot / 19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80536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Aspiradora Singer / 19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06760" y="1268280"/>
            <a:ext cx="2144880" cy="511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56360" y="1268280"/>
            <a:ext cx="1879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60451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Lucky Strike  / 19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2567160"/>
            <a:ext cx="2385720" cy="302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421080" y="2563920"/>
            <a:ext cx="2427120" cy="309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229440" y="2637000"/>
            <a:ext cx="2363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60451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Sacapuntas / 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1280" y="2308320"/>
            <a:ext cx="4336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0451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Shell (rediseño) / 19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27080" y="1989000"/>
            <a:ext cx="3544920" cy="360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3146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Raymond Loe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451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Loewy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Uniformes Shell / 19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765600" y="1125360"/>
            <a:ext cx="1958760" cy="532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443640" y="1123920"/>
            <a:ext cx="1687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1268280"/>
            <a:ext cx="720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Primera imagen masiva del mundo moderno, eléctrico y aerodiná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xpresó los sentimientos y aspiraciones del homb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l diseño como factor econó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Antecedentes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268280"/>
            <a:ext cx="72007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Políticas económicas del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Laissez faire (liberalismo económ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Intervención del estado en la economía (John Key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Franklin Delano Roosevelt (1933) / </a:t>
            </a: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New 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Ley de Promo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Política de Pleno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Ley Nacional de Vivien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Medidas Im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Política del Buen Ve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Ley de Adaptación Agrí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43920"/>
            <a:ext cx="3097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Streamline Dec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268280"/>
            <a:ext cx="72007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Recuperación de los mercados internos y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Recuperación de la pequeña y mediana 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Bel Geddes, Teague, Dreyfuss, Loe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Trabajo en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Conocimientos sobre comercialización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Líneas aerodiná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Pro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Segur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1268280"/>
            <a:ext cx="7056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Garamond"/>
              </a:rPr>
              <a:t>Forma de g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Mejor penetración en los fl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Reduce la resistencia y la turbu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Túneles de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La electricidad se introduce en los hog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lectrodomé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Publicidad en cines y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640" y="43920"/>
            <a:ext cx="302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Streamline Dec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1268280"/>
            <a:ext cx="7200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Simbología derivada de la herál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Brillos cromados y plat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Traspaso de cód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Fuerte direccio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Los diseñadores creyeron que su tarea era hacer los productos irresistibles, esto es, intentaron proyectar los deseos y esperanzas subliminales del usuario en los objetos para estimular la compra</a:t>
            </a:r>
            <a:r>
              <a:rPr b="0" lang="es-ES" sz="1800" spc="-1" strike="noStrike">
                <a:solidFill>
                  <a:srgbClr val="000000"/>
                </a:solidFill>
                <a:latin typeface="A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Garamond"/>
              </a:rPr>
              <a:t>Feria Munial de 1939, 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30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Streamline Dec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4032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Norman Bel Ged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268280"/>
            <a:ext cx="720072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1893 – 1958 / Norte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Pintor, ilustrador, arquitecto, diseñador y escritor. Después de trabajar como escaparatista y diseñador para el teatro, Bel Geddes empezó a diseñar objetos industriales en 1927 como coches, radios e interiores de av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Garamond"/>
              </a:rPr>
              <a:t>Debido a la naturaleza futurista de sus diseños, pocos llegaron a fabricarse. No obstante su libro Horizons contribuyó a popularizar el aerodinamismo y fue el primer diseñador industrial que gozó del reconocimiento del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256000" cy="1874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65720" y="1844640"/>
            <a:ext cx="2892600" cy="4537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Bel Geddes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Avión anfibio / </a:t>
            </a: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19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4032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Norman Bel Ged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73080"/>
            <a:ext cx="45370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Garamond"/>
              </a:rPr>
              <a:t>Styling / Norman Bel Ged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5040360" cy="1778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5040360" cy="2104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71640" y="6045120"/>
            <a:ext cx="426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Bel Geddes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Auto Nº 8 – Colectivo Nº 2 / </a:t>
            </a: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19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0:36:25Z</dcterms:created>
  <dc:creator>x</dc:creator>
  <dc:description/>
  <dc:language>en-US</dc:language>
  <cp:lastModifiedBy>x</cp:lastModifiedBy>
  <dcterms:modified xsi:type="dcterms:W3CDTF">2007-10-31T12:17:03Z</dcterms:modified>
  <cp:revision>31</cp:revision>
  <dc:subject/>
  <dc:title>Lucien Achille Mauzán</dc:title>
</cp:coreProperties>
</file>