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095-F36C-4C3D-A8B3-F90E055A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431-41CD-46D6-8C09-B61B34DB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350-022F-48E8-8BDC-64E63AF5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539-964F-4E30-9E30-186C4CCE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769-9E61-4BEA-90B9-04DF0DD0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114-7C17-4E63-BD03-3564F2CD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5A0-EB74-4814-B30C-3D6A9556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CDA-D959-4E74-89B5-959C07FD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112-8D90-4AD8-BDED-ED18EE1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3A8-111A-4248-B60C-782D094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D61-1C53-47CB-9178-20752EBA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F6C-8B99-4956-ADF9-E68AAF4D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14CF-11BC-4BC0-844D-D44A64FC9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71640" y="6045120"/>
            <a:ext cx="42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Mauzán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Publicidad Teatro Ópe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81480" y="1557360"/>
            <a:ext cx="299088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1640" y="6045120"/>
            <a:ext cx="42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Mauzán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Publicidad Cafiaspiri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48040" y="1557360"/>
            <a:ext cx="3424320" cy="4753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57240" y="6045120"/>
            <a:ext cx="42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Mauzán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Publicidad Nestl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408120" cy="4753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5800680"/>
            <a:ext cx="282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Mauzá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Publicidad Fernet Bran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48000" y="2982960"/>
            <a:ext cx="4824360" cy="3327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91120" y="1917720"/>
            <a:ext cx="308124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6045120"/>
            <a:ext cx="42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Mauzán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Publicidad Calzados Ton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1640" y="6045120"/>
            <a:ext cx="42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Mauzán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Publicidad Vermuth Carpa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35480" y="1846440"/>
            <a:ext cx="2936880" cy="446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2444760"/>
            <a:ext cx="42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Mauzán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Publicidad Naranja Bil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3397320"/>
            <a:ext cx="4392360" cy="2911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618160" y="2421000"/>
            <a:ext cx="2554200" cy="388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6920" y="1978200"/>
            <a:ext cx="748836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El anuncio en la vía pública debe ser simple y verse de le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Los carteles son gritos pegados en la p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Los carteles son bombos de la orquesta de la 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La idea es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Integración cultural con nuestro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Artista multifac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6920" y="1978200"/>
            <a:ext cx="748836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En 1932 regresa a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Durante la Segunda Guerra Mundial, se radica en 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Muere en 19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Reconocimient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6720" y="1978200"/>
            <a:ext cx="54720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Nace en 1883, en Gap, 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Estudia pintura en la Escuela de Bellas Artes de L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En 1905 se instala e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Primera Guerr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5800680"/>
            <a:ext cx="404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Garamond"/>
              </a:rPr>
              <a:t>1917 / Afiche italian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Garamond"/>
              </a:rPr>
              <a:t>El italiano corta la mano ganchuda del enemi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97520" y="1989000"/>
            <a:ext cx="3174840" cy="431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60720" y="2001960"/>
            <a:ext cx="482436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Buenos Aires,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primeras décadas del siglo 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Inmigración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José María Cao, Alejandro Sirio, Franco Mosca, Mario Zavatt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21360" y="1557360"/>
            <a:ext cx="3051000" cy="47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71640" y="6045120"/>
            <a:ext cx="40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1901 / José María Cao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Ingeniero Carlos Thay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6027840"/>
            <a:ext cx="40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1903 / José María Cao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Ernesto de la Cárco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19640" y="1539720"/>
            <a:ext cx="2955960" cy="475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1640" y="6041880"/>
            <a:ext cx="40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1900 / Alejandro Sirio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Santiago Ramón y Caj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80040" y="1554120"/>
            <a:ext cx="2992320" cy="4753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19280" y="1989000"/>
            <a:ext cx="59054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1927, Mauzán en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En Buenos Aires funda su propi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Cafiaspirina, Bilz, Seltz, Casa América, Bignoli, Heinle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Garamond"/>
              </a:rPr>
              <a:t>Costa Grande, Quilmes, Compañía General de Fósfor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Garamond"/>
              </a:rPr>
              <a:t>Argentina capital del arte gráfico latinoamer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6045120"/>
            <a:ext cx="42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Garamond"/>
              </a:rPr>
              <a:t>Mauzán / </a:t>
            </a:r>
            <a:r>
              <a:rPr b="0" i="1" lang="es-ES" sz="1600" spc="-1" strike="noStrike">
                <a:solidFill>
                  <a:srgbClr val="000000"/>
                </a:solidFill>
                <a:latin typeface="AGaramond"/>
              </a:rPr>
              <a:t>Publicidad para Geni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94280" y="1486080"/>
            <a:ext cx="3178080" cy="4824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f8b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03640" y="43920"/>
            <a:ext cx="453672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Garamond"/>
              </a:rPr>
              <a:t>Lucien Achille Mauz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0:36:25Z</dcterms:created>
  <dc:creator>x</dc:creator>
  <dc:description/>
  <dc:language>en-US</dc:language>
  <cp:lastModifiedBy>x</cp:lastModifiedBy>
  <dcterms:modified xsi:type="dcterms:W3CDTF">2007-10-30T14:37:29Z</dcterms:modified>
  <cp:revision>15</cp:revision>
  <dc:subject/>
  <dc:title>Lucien Achille Mauzán</dc:title>
</cp:coreProperties>
</file>