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5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37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5.jpeg" ContentType="image/jpeg"/>
  <Override PartName="/ppt/media/image10.jpeg" ContentType="image/jpeg"/>
  <Override PartName="/ppt/media/image8.jpeg" ContentType="image/jpeg"/>
  <Override PartName="/ppt/media/image4.wmf" ContentType="image/x-wmf"/>
  <Override PartName="/ppt/media/image13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23.jpeg" ContentType="image/jpeg"/>
  <Override PartName="/ppt/media/image7.jpeg" ContentType="image/jpeg"/>
  <Override PartName="/ppt/media/image38.jpeg" ContentType="image/jpeg"/>
  <Override PartName="/ppt/media/image1.wmf" ContentType="image/x-wmf"/>
  <Override PartName="/ppt/media/image14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6DA0-10E1-4453-A683-F62F226AA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1F24-1296-4C85-87FA-363ED13D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390C-5764-4352-B87F-EEC8494DD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CB5B-46E8-4C8F-A191-9E3F295FC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67B0-ED30-4A1E-A6AF-EA33F6F5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FE14-6C37-43FC-9841-F3DC3B83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B9C4-313C-4AD8-BEF8-AD68DC0C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A381-91C6-4CBD-B8AC-ED9833E9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766B-1D7B-4708-82F8-1EB42D97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97F5-C8E0-402F-8924-188559BA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D69D-6188-40A7-B2A3-C22BDDC3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6F49-5077-41E1-BBA3-D27EF8F5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DB97-2703-4899-BF76-6FC66A8EF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1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49520" y="32004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OCLASIC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59200" y="2819520"/>
            <a:ext cx="0" cy="121896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99400" y="3289320"/>
            <a:ext cx="1040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SCULTU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98680" y="2908440"/>
            <a:ext cx="1297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RQUITECTU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97600" y="3670200"/>
            <a:ext cx="801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INTU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865760" y="2971800"/>
          <a:ext cx="179280" cy="1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5760" y="2971800"/>
                    <a:ext cx="179280" cy="1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4865760" y="3352680"/>
          <a:ext cx="179280" cy="1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65760" y="3352680"/>
                    <a:ext cx="179280" cy="1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865760" y="3733920"/>
          <a:ext cx="179280" cy="17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65760" y="3733920"/>
                    <a:ext cx="179280" cy="1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2327400" y="3252960"/>
          <a:ext cx="252360" cy="252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27400" y="3252960"/>
                    <a:ext cx="252360" cy="2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6583320"/>
            <a:ext cx="693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OCLASICISM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ARQUITECTUR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SOUFFLOT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IGLESIA SANTA GENOV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8891640" y="0"/>
          <a:ext cx="252360" cy="25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91640" y="0"/>
                    <a:ext cx="252360" cy="2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304920" y="987480"/>
            <a:ext cx="8458200" cy="48798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6583320"/>
            <a:ext cx="693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OCLASICISM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ARQUITECTUR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LEO VON KLENZE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GLIPTOTECA DE MUNIC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8891640" y="0"/>
          <a:ext cx="252360" cy="25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91640" y="0"/>
                    <a:ext cx="252360" cy="2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304920" y="541440"/>
            <a:ext cx="8610480" cy="55864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6583320"/>
            <a:ext cx="693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OCLASICISM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ARQUITECTUR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SOUFFLOT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IGLESIA SANTA GENOV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8891640" y="0"/>
          <a:ext cx="252360" cy="25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91640" y="0"/>
                    <a:ext cx="252360" cy="2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703440" y="304920"/>
            <a:ext cx="4630680" cy="60195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6583320"/>
            <a:ext cx="693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OCLASICISM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ARQUITECTUR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GABRIEL 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ESCUELA MILITAR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891640" y="0"/>
          <a:ext cx="252360" cy="25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91640" y="0"/>
                    <a:ext cx="252360" cy="2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304920" y="1774800"/>
            <a:ext cx="8610480" cy="35463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6583320"/>
            <a:ext cx="693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OCLASICISM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ARQUITECTUR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GABRIEL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PETIT TRIANON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8891640" y="0"/>
          <a:ext cx="252360" cy="25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91640" y="0"/>
                    <a:ext cx="252360" cy="2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380880" y="581040"/>
            <a:ext cx="8305920" cy="56037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6583320"/>
            <a:ext cx="693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OCLASICISM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ESCULTUR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CÁNOVA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DÉDALO E ÍCAR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8837640" y="0"/>
          <a:ext cx="306360" cy="30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37640" y="0"/>
                    <a:ext cx="30636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4952880" y="304920"/>
            <a:ext cx="3384720" cy="59436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6583320"/>
            <a:ext cx="693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OCLASICISM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ESCULTUR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CÁNOVA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AMOR Y PSIQUE</a:t>
            </a: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8837640" y="0"/>
          <a:ext cx="306360" cy="30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37640" y="0"/>
                    <a:ext cx="30636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3048120" y="380880"/>
            <a:ext cx="5594400" cy="58993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6583320"/>
            <a:ext cx="693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OCLASICISM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ESCULTUR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CÁNOVA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HE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837640" y="0"/>
          <a:ext cx="306360" cy="30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37640" y="0"/>
                    <a:ext cx="30636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5334120" y="228600"/>
            <a:ext cx="2787480" cy="61722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6583320"/>
            <a:ext cx="693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OCLASISISM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ESCULTUR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CÁNOVA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HE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6583320"/>
            <a:ext cx="8991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OCLASICISM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ESCULTUR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CÁNOVA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MONUMENTO DE CLEMENTE XIII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837640" y="0"/>
          <a:ext cx="306360" cy="30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37640" y="0"/>
                    <a:ext cx="30636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4343400" y="228600"/>
            <a:ext cx="4110120" cy="61722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267080" y="228600"/>
            <a:ext cx="4267440" cy="61722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6583320"/>
            <a:ext cx="693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OCLASICISM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ESCULTUR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CÁNOVA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MONUMENTO DE CLEMENTE XIV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2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8837640" y="0"/>
          <a:ext cx="306360" cy="30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837640" y="0"/>
                    <a:ext cx="30636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6553080"/>
            <a:ext cx="693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NEOCLASICISMO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  / </a:t>
            </a:r>
            <a:r>
              <a:rPr b="1" lang="es-ES" sz="1200" spc="-1" strike="noStrike">
                <a:solidFill>
                  <a:srgbClr val="dddddd"/>
                </a:solidFill>
                <a:latin typeface="Arial"/>
              </a:rPr>
              <a:t>ARQUITECTURA</a:t>
            </a:r>
            <a:r>
              <a:rPr b="1" lang="es-ES" sz="12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CHINKEL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MUSEO DE BERLIN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" action="ppaction://hlinksldjump"/>
          </p:cNvPr>
          <p:cNvSpPr/>
          <p:nvPr/>
        </p:nvSpPr>
        <p:spPr>
          <a:xfrm>
            <a:off x="883908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8891640" y="0"/>
          <a:ext cx="252360" cy="25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91640" y="0"/>
                    <a:ext cx="252360" cy="2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15960" y="730080"/>
            <a:ext cx="7912080" cy="53978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2280" y="6583320"/>
            <a:ext cx="693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OCLASISISM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ESCULTUR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CÁNOVA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HE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2280" y="6583320"/>
            <a:ext cx="8991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OCLASICISM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ESCULTUR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CÁNOVA /  MONUMENTO DUQUESA CRISTINA</a:t>
            </a: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8837640" y="0"/>
          <a:ext cx="306360" cy="30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37640" y="0"/>
                    <a:ext cx="30636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4125960" y="304920"/>
            <a:ext cx="4389480" cy="60958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6583320"/>
            <a:ext cx="693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OCLASISISM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ESCULTUR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CÁNOVA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HE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6583320"/>
            <a:ext cx="693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OCLASICISM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ESCULTUR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CÁNOVA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PAULINA BONAPART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8837640" y="0"/>
          <a:ext cx="306360" cy="30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37640" y="0"/>
                    <a:ext cx="30636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380880" y="523800"/>
            <a:ext cx="8382240" cy="58104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2280" y="6583320"/>
            <a:ext cx="693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OCLASISISM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ESCULTUR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CÁNOVA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HE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6583320"/>
            <a:ext cx="693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OCLASICISM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ESCULTUR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CHINARD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MADAME RECAMIER</a:t>
            </a: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8837640" y="0"/>
          <a:ext cx="306360" cy="30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37640" y="0"/>
                    <a:ext cx="30636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5181480" y="228600"/>
            <a:ext cx="3184560" cy="60958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52578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JASÓN CON VELLOCINO DE O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315200" y="5105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2280" y="6583320"/>
            <a:ext cx="693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OCLASISISM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ESCULTUR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CÁNOVA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HE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6583320"/>
            <a:ext cx="82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OCLASICISM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ESCULTUR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THORVALDSEN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JASÓN CON VELLOCINO DE ORO Y  V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8837640" y="0"/>
          <a:ext cx="306360" cy="30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37640" y="0"/>
                    <a:ext cx="30636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2438280" y="380880"/>
            <a:ext cx="4098960" cy="60073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2280" y="6583320"/>
            <a:ext cx="693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OCLASISISM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ESCULTUR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CÁNOVA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HE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2280" y="6583320"/>
            <a:ext cx="82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OCLASICISM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ESCULTUR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DANIA COMPENY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LUCREC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8837640" y="0"/>
          <a:ext cx="306360" cy="30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37640" y="0"/>
                    <a:ext cx="30636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2286000" y="457200"/>
            <a:ext cx="6426360" cy="58104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OCLASICISM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PINTUR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DAVID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EL JURAMENTO DE LOS HORACIO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8837640" y="0"/>
          <a:ext cx="306360" cy="30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37640" y="0"/>
                    <a:ext cx="30636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304920" y="816120"/>
            <a:ext cx="8534160" cy="52797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OCLASICISM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PINTUR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DAVID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EL RAPTO DE LAS SABINA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8837640" y="0"/>
          <a:ext cx="306360" cy="3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37640" y="0"/>
                    <a:ext cx="30636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380880" y="750960"/>
            <a:ext cx="8458200" cy="54212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OCLASICISM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PINTUR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DAVID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 / MARAT</a:t>
            </a: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8837640" y="0"/>
          <a:ext cx="306360" cy="3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37640" y="0"/>
                    <a:ext cx="30636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457200" y="317520"/>
            <a:ext cx="4594320" cy="60069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OCLASICISM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PINTUR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DAVID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CORON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8837640" y="0"/>
          <a:ext cx="306360" cy="3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37640" y="0"/>
                    <a:ext cx="30636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4332240" y="228600"/>
            <a:ext cx="4240440" cy="61722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OCLASICISM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PINTUR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DAVID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MADAME VERNINA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8837640" y="0"/>
          <a:ext cx="306360" cy="3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37640" y="0"/>
                    <a:ext cx="30636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5105520" y="228600"/>
            <a:ext cx="3108240" cy="61722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6553080"/>
            <a:ext cx="693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NEOCLASICISMO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s-ES" sz="1200" spc="-1" strike="noStrike">
                <a:solidFill>
                  <a:srgbClr val="dddddd"/>
                </a:solidFill>
                <a:latin typeface="Arial"/>
              </a:rPr>
              <a:t>ARQUITECTURA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OBERT SMIRKE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MUSEO BRITÁNICO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891640" y="0"/>
          <a:ext cx="252360" cy="25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91640" y="0"/>
                    <a:ext cx="252360" cy="2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981080" y="1143000"/>
            <a:ext cx="6680160" cy="5003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81080" y="1143000"/>
            <a:ext cx="6629400" cy="5029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OCLASICISM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PINTUR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DAVID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RETRATO DE NAPOLE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8837640" y="0"/>
          <a:ext cx="306360" cy="3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37640" y="0"/>
                    <a:ext cx="30636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685800" y="228600"/>
            <a:ext cx="4689360" cy="60958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OCLASICISM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PINTUR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POMPEO BATONI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EDUCACIÓN DE AQUIL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8837640" y="0"/>
          <a:ext cx="306360" cy="30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37640" y="0"/>
                    <a:ext cx="30636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4227480" y="304920"/>
            <a:ext cx="4289400" cy="60958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2280" y="6583320"/>
            <a:ext cx="8686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OCLASICISM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PINTUR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M. A. HOUSE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CLASE DE ANATOMÍ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8837640" y="0"/>
          <a:ext cx="306360" cy="30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37640" y="0"/>
                    <a:ext cx="30636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304920" y="501480"/>
            <a:ext cx="8534160" cy="57722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OCLASICISM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PINTUR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JOSEPH VIEN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VENDEDORA DE CUPIDO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8837640" y="0"/>
          <a:ext cx="306360" cy="30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37640" y="0"/>
                    <a:ext cx="30636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304920" y="503280"/>
            <a:ext cx="8534160" cy="57578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OCLASICISM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PINTUR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PRUD`HON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EMPERATRIZ JOSEF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8837640" y="0"/>
          <a:ext cx="306360" cy="3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37640" y="0"/>
                    <a:ext cx="30636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609480" y="304920"/>
            <a:ext cx="4410360" cy="60069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OCLASICISM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PINTUR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GERARD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CUPIDO Y PS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8837640" y="0"/>
          <a:ext cx="306360" cy="3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37640" y="0"/>
                    <a:ext cx="30636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457200" y="228600"/>
            <a:ext cx="4000680" cy="61596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6553080"/>
            <a:ext cx="693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NEOCLASICISMO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s-ES" sz="1200" spc="-1" strike="noStrike">
                <a:solidFill>
                  <a:srgbClr val="dddddd"/>
                </a:solidFill>
                <a:latin typeface="Arial"/>
              </a:rPr>
              <a:t>ARQUITECTURA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RAYMOND CHALGRIN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dddddd"/>
                </a:solidFill>
                <a:latin typeface="Arial"/>
              </a:rPr>
              <a:t>ARCO DE TRIU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8891640" y="0"/>
          <a:ext cx="252360" cy="25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91640" y="0"/>
                    <a:ext cx="252360" cy="2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2819520" y="228600"/>
            <a:ext cx="5475240" cy="61722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6553080"/>
            <a:ext cx="693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OCLASICISM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ARQUITECTUR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FONTAIN PERCIER</a:t>
            </a:r>
            <a:r>
              <a:rPr b="1" lang="en-US" sz="1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ARCO DE TRIU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8891640" y="0"/>
          <a:ext cx="252360" cy="25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91640" y="0"/>
                    <a:ext cx="252360" cy="2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2971800" y="304920"/>
            <a:ext cx="5356080" cy="59436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6553080"/>
            <a:ext cx="693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OCLASICISM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ARQUITECTUR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LUIGI CAGNOL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ARCO SEMPIONE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8891640" y="0"/>
          <a:ext cx="252360" cy="25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91640" y="0"/>
                    <a:ext cx="252360" cy="2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905120" y="228600"/>
            <a:ext cx="5446440" cy="61722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6553080"/>
            <a:ext cx="693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OCLASICISM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ARQUITECTUR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VIGNON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IGLESIA MADELE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8891640" y="0"/>
          <a:ext cx="252360" cy="25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91640" y="0"/>
                    <a:ext cx="252360" cy="2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457200" y="457200"/>
            <a:ext cx="8153280" cy="58341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6583320"/>
            <a:ext cx="693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OCLASICISM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ARQUITECTUR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LANGHANS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PUERTAS DE BRANDEMBURG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891640" y="0"/>
          <a:ext cx="252360" cy="25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91640" y="0"/>
                    <a:ext cx="252360" cy="2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80880" y="533520"/>
            <a:ext cx="8382240" cy="56293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6583320"/>
            <a:ext cx="693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OCLASICISM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ARQUITECTUR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VILLANUEVA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CASITA DE ARRIBA, ESCORIAL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8891640" y="0"/>
          <a:ext cx="252360" cy="25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91640" y="0"/>
                    <a:ext cx="252360" cy="2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304920" y="1214280"/>
            <a:ext cx="8534160" cy="43484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18:10:17Z</dcterms:created>
  <dc:creator>Serv2</dc:creator>
  <dc:description/>
  <dc:language>en-US</dc:language>
  <cp:lastModifiedBy>x</cp:lastModifiedBy>
  <dcterms:modified xsi:type="dcterms:W3CDTF">2008-03-13T14:52:59Z</dcterms:modified>
  <cp:revision>83</cp:revision>
  <dc:subject/>
  <dc:title>Diapositiva 1</dc:title>
</cp:coreProperties>
</file>