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5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.wmf" ContentType="image/x-wmf"/>
  <Override PartName="/ppt/media/image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.wmf" ContentType="image/x-wmf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2BE7-06E4-4A49-9967-6CC5DA53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2A92-8A21-4E44-BC75-FE99A50E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4725-837D-4F3F-9BB4-65714707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ACA9-EAC2-488A-AB83-474E0CD1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6BD8-09F8-4B32-B98A-4EBBA4AD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826F-4101-420B-AB4F-38601318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E96A-D320-4C9F-AB8B-0BBB1B72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B07A-C325-41FE-9FA0-649CD876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3B74-5A25-4E55-B53D-8251F430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E466-A1AC-4426-BE07-5359B963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CC0F-5C35-4C5A-8C9F-7972C4D7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92E3-DE46-4DA7-B522-3E94D07F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AF02-5577-4D6F-A9F5-6084ABE86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25680" y="2906640"/>
            <a:ext cx="25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YA E ING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374920" y="2941560"/>
          <a:ext cx="272880" cy="2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4920" y="2941560"/>
                    <a:ext cx="272880" cy="2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4775040" y="2784600"/>
            <a:ext cx="71640" cy="658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944960" y="2852640"/>
            <a:ext cx="177840" cy="177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951440" y="3162240"/>
            <a:ext cx="177840" cy="177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178600" y="2797200"/>
            <a:ext cx="77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Y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87960" y="3108240"/>
            <a:ext cx="9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G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831160" y="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816440" y="527040"/>
            <a:ext cx="3781440" cy="56595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404640" y="6561000"/>
            <a:ext cx="42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OYA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/ La familia del Duque de Osu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831160" y="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286240" y="428760"/>
            <a:ext cx="3346560" cy="58291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404280" y="6561000"/>
            <a:ext cx="43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OYA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/ Milagro de San Antonio (detalle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831160" y="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54200" y="847800"/>
            <a:ext cx="7570800" cy="50338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403560" y="6561000"/>
            <a:ext cx="41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OYA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/ La familia del Infante Don Lu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831160" y="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09480" y="857160"/>
            <a:ext cx="7925040" cy="51436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401040" y="6561000"/>
            <a:ext cx="74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RANCISCO JOSÉ DE GOYA Y LUCIENTES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/ Los fusilamientos del 3 de ma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831160" y="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570560" y="425520"/>
            <a:ext cx="3848040" cy="58611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398880" y="6561000"/>
            <a:ext cx="508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OYA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os fusilamientos del 3 de mayo (detall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831160" y="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782960" y="501480"/>
            <a:ext cx="3699000" cy="57582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406080" y="6561000"/>
            <a:ext cx="343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OYA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/ Santa Justa y Ruf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831160" y="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15960" y="666720"/>
            <a:ext cx="8035920" cy="53560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402120" y="6561000"/>
            <a:ext cx="441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OYA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/ El entierro de la sardina (detall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831160" y="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734000" y="687240"/>
            <a:ext cx="3797280" cy="51944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410040" y="6561000"/>
            <a:ext cx="25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OYA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/ El colos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831160" y="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184720" y="547560"/>
            <a:ext cx="3287880" cy="57261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403560" y="6561000"/>
            <a:ext cx="40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OYA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/ Saturno devorando a su hij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831160" y="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50880" y="797040"/>
            <a:ext cx="7988400" cy="51289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397440" y="6561000"/>
            <a:ext cx="56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OYA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/ Peregrinación a la Fuente de San Isidro (detall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831160" y="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14440" y="730080"/>
            <a:ext cx="8115120" cy="53978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10400" y="6561000"/>
            <a:ext cx="25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OYA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/ El paras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831160" y="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422600" y="333360"/>
            <a:ext cx="4057920" cy="60246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407520" y="6561000"/>
            <a:ext cx="324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OYA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/ Carnaval (detall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831160" y="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352760" y="422280"/>
            <a:ext cx="3878280" cy="57625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408240" y="6561000"/>
            <a:ext cx="27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OYA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utorretra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831160" y="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27720" y="384120"/>
            <a:ext cx="3817800" cy="58165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405360" y="6561000"/>
            <a:ext cx="363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OYA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a lechera de Burde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831160" y="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82760" y="730080"/>
            <a:ext cx="8178480" cy="53978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407880" y="6561000"/>
            <a:ext cx="30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OYA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/ Murió la verda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831160" y="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66720" y="768240"/>
            <a:ext cx="7924680" cy="51181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408600" y="6561000"/>
            <a:ext cx="291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OYA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odo de vo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831160" y="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076640" y="469800"/>
            <a:ext cx="4313160" cy="56880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399960" y="6561000"/>
            <a:ext cx="492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OYA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etención de un reo no exige tor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831160" y="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630680" y="439560"/>
            <a:ext cx="3695760" cy="57326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399600" y="6561000"/>
            <a:ext cx="499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OYA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/ El sueño de la razón produce monstru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831160" y="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762440" y="569880"/>
            <a:ext cx="3710160" cy="55720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409680" y="6561000"/>
            <a:ext cx="26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OYA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Ya es h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831160" y="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915080" y="388800"/>
            <a:ext cx="2796840" cy="58849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407880" y="6510240"/>
            <a:ext cx="61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EAN AUGUSTE DOMINIQ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GRES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/ Mademoiselle Riviè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831160" y="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216320" y="473040"/>
            <a:ext cx="3990960" cy="57704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88" name=""/>
          <p:cNvSpPr/>
          <p:nvPr/>
        </p:nvSpPr>
        <p:spPr>
          <a:xfrm>
            <a:off x="412920" y="6561000"/>
            <a:ext cx="194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GRES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9600" y="6561000"/>
            <a:ext cx="57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GRES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/ Retrato de Madame Antonia Duvauçay de Nitti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831160" y="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359240" y="316080"/>
            <a:ext cx="4149720" cy="61196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407520" y="6561000"/>
            <a:ext cx="32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OYA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/ El parasol (detal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8831160" y="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622760" y="428760"/>
            <a:ext cx="3830760" cy="58147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407520" y="6561000"/>
            <a:ext cx="366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GRES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/ Bañista de Valpinçon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831160" y="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54120" y="736560"/>
            <a:ext cx="7924680" cy="50673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407880" y="6561000"/>
            <a:ext cx="325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GRES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/ La gran odalis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831160" y="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549600" y="390600"/>
            <a:ext cx="4794480" cy="58388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402840" y="6561000"/>
            <a:ext cx="43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OYA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/ El vendedor de vasijas de bar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831160" y="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268880" y="363600"/>
            <a:ext cx="3859200" cy="58370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401040" y="6561000"/>
            <a:ext cx="49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OYA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aría del Rosario Fernández. La Tir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831160" y="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825480"/>
            <a:ext cx="7925040" cy="52070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408600" y="6561000"/>
            <a:ext cx="339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OYA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/ Familia de Carlos 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831160" y="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740120" y="557280"/>
            <a:ext cx="3719520" cy="55846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408600" y="6561000"/>
            <a:ext cx="320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OYA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/ PINTURA / Duquesa de Alb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831160" y="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66720" y="993600"/>
            <a:ext cx="7696080" cy="47372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408240" y="6561000"/>
            <a:ext cx="31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OYA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/ La maja desnu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831160" y="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76440" y="1301760"/>
            <a:ext cx="7802280" cy="41418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407520" y="6561000"/>
            <a:ext cx="30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OYA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/ La maja vesti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18:10:17Z</dcterms:created>
  <dc:creator>Serv2</dc:creator>
  <dc:description/>
  <dc:language>en-US</dc:language>
  <cp:lastModifiedBy>x</cp:lastModifiedBy>
  <dcterms:modified xsi:type="dcterms:W3CDTF">2007-05-16T22:36:19Z</dcterms:modified>
  <cp:revision>100</cp:revision>
  <dc:subject/>
  <dc:title>Diapositiva 1</dc:title>
</cp:coreProperties>
</file>